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7.jpeg" ContentType="image/jpeg"/>
  <Override PartName="/ppt/media/image126.png" ContentType="image/png"/>
  <Override PartName="/ppt/media/image26.png" ContentType="image/png"/>
  <Override PartName="/ppt/media/image118.jpeg" ContentType="image/jpeg"/>
  <Override PartName="/ppt/media/image101.jpeg" ContentType="image/jpeg"/>
  <Override PartName="/ppt/media/image22.jpeg" ContentType="image/jpeg"/>
  <Override PartName="/ppt/media/image81.jpeg" ContentType="image/jpeg"/>
  <Override PartName="/ppt/media/image6.gif" ContentType="image/gif"/>
  <Override PartName="/ppt/media/image86.png" ContentType="image/png"/>
  <Override PartName="/ppt/media/image83.gif" ContentType="image/gif"/>
  <Override PartName="/ppt/media/image112.jpeg" ContentType="image/jpeg"/>
  <Override PartName="/ppt/media/image3.png" ContentType="image/png"/>
  <Override PartName="/ppt/media/image92.jpeg" ContentType="image/jpeg"/>
  <Override PartName="/ppt/media/image80.png" ContentType="image/png"/>
  <Override PartName="/ppt/media/image4.gif" ContentType="image/gif"/>
  <Override PartName="/ppt/media/image33.jpeg" ContentType="image/jpeg"/>
  <Override PartName="/ppt/media/image13.png" ContentType="image/png"/>
  <Override PartName="/ppt/media/image1.png" ContentType="image/png"/>
  <Override PartName="/ppt/media/image12.wmf" ContentType="image/x-wmf"/>
  <Override PartName="/ppt/media/image116.jpeg" ContentType="image/jpeg"/>
  <Override PartName="/ppt/media/image49.wmf" ContentType="image/x-wmf"/>
  <Override PartName="/ppt/media/image51.png" ContentType="image/png"/>
  <Override PartName="/ppt/media/image9.png" ContentType="image/png"/>
  <Override PartName="/ppt/media/image31.png" ContentType="image/png"/>
  <Override PartName="/ppt/media/image68.png" ContentType="image/png"/>
  <Override PartName="/ppt/media/image47.jpeg" ContentType="image/jpeg"/>
  <Override PartName="/ppt/media/image56.jpeg" ContentType="image/jpeg"/>
  <Override PartName="/ppt/media/image10.wmf" ContentType="image/x-wmf"/>
  <Override PartName="/ppt/media/image53.png" ContentType="image/png"/>
  <Override PartName="/ppt/media/image45.jpeg" ContentType="image/jpeg"/>
  <Override PartName="/ppt/media/image39.jpeg" ContentType="image/jpeg"/>
  <Override PartName="/ppt/media/image2.png" ContentType="image/png"/>
  <Override PartName="/ppt/media/image128.jpeg" ContentType="image/jpeg"/>
  <Override PartName="/ppt/media/image46.jpeg" ContentType="image/jpeg"/>
  <Override PartName="/ppt/media/image58.png" ContentType="image/png"/>
  <Override PartName="/ppt/media/image57.jpeg" ContentType="image/jpeg"/>
  <Override PartName="/ppt/media/image93.jpeg" ContentType="image/jpeg"/>
  <Override PartName="/ppt/media/image90.png" ContentType="image/png"/>
  <Override PartName="/ppt/media/image25.png" ContentType="image/png"/>
  <Override PartName="/ppt/media/image11.png" ContentType="image/png"/>
  <Override PartName="/ppt/media/image43.jpeg" ContentType="image/jpeg"/>
  <Override PartName="/ppt/media/image55.jpeg" ContentType="image/jpeg"/>
  <Override PartName="/ppt/media/image28.png" ContentType="image/png"/>
  <Override PartName="/ppt/media/image50.png" ContentType="image/png"/>
  <Override PartName="/ppt/media/image37.jpeg" ContentType="image/jpeg"/>
  <Override PartName="/ppt/media/image20.png" ContentType="image/png"/>
  <Override PartName="/ppt/media/image8.gif" ContentType="image/gif"/>
  <Override PartName="/ppt/media/image129.jpeg" ContentType="image/jpeg"/>
  <Override PartName="/ppt/media/image35.jpeg" ContentType="image/jpeg"/>
  <Override PartName="/ppt/media/image52.jpeg" ContentType="image/jpeg"/>
  <Override PartName="/ppt/media/image66.png" ContentType="image/png"/>
  <Override PartName="/ppt/media/image120.jpeg" ContentType="image/jpeg"/>
  <Override PartName="/ppt/media/image44.png" ContentType="image/png"/>
  <Override PartName="/ppt/media/image75.jpeg" ContentType="image/jpeg"/>
  <Override PartName="/ppt/media/image40.jpeg" ContentType="image/jpeg"/>
  <Override PartName="/ppt/media/image34.jpeg" ContentType="image/jpeg"/>
  <Override PartName="/ppt/media/image30.jpeg" ContentType="image/jpeg"/>
  <Override PartName="/ppt/media/image18.wmf" ContentType="image/x-wmf"/>
  <Override PartName="/ppt/media/image48.jpeg" ContentType="image/jpeg"/>
  <Override PartName="/ppt/media/image42.jpeg" ContentType="image/jpeg"/>
  <Override PartName="/ppt/media/image54.gif" ContentType="image/gif"/>
  <Override PartName="/ppt/media/image15.jpeg" ContentType="image/jpeg"/>
  <Override PartName="/ppt/media/image16.png" ContentType="image/png"/>
  <Override PartName="/ppt/media/image36.jpeg" ContentType="image/jpeg"/>
  <Override PartName="/ppt/media/image21.jpeg" ContentType="image/jpeg"/>
  <Override PartName="/ppt/media/image100.jpeg" ContentType="image/jpeg"/>
  <Override PartName="/ppt/media/image19.png" ContentType="image/png"/>
  <Override PartName="/ppt/media/image117.jpeg" ContentType="image/jpeg"/>
  <Override PartName="/ppt/media/image23.jpeg" ContentType="image/jpeg"/>
  <Override PartName="/ppt/media/image5.gif" ContentType="image/gif"/>
  <Override PartName="/ppt/media/image17.png" ContentType="image/png"/>
  <Override PartName="/ppt/media/image85.png" ContentType="image/png"/>
  <Override PartName="/ppt/media/image102.jpeg" ContentType="image/jpeg"/>
  <Override PartName="/ppt/media/image119.jpeg" ContentType="image/jpeg"/>
  <Override PartName="/ppt/media/image59.png" ContentType="image/png"/>
  <Override PartName="/ppt/media/image110.png" ContentType="image/png"/>
  <Override PartName="/ppt/media/image24.jpeg" ContentType="image/jpeg"/>
  <Override PartName="/ppt/media/image103.jpeg" ContentType="image/jpeg"/>
  <Override PartName="/ppt/media/image27.jpeg" ContentType="image/jpeg"/>
  <Override PartName="/ppt/media/image106.jpeg" ContentType="image/jpeg"/>
  <Override PartName="/ppt/media/image38.jpeg" ContentType="image/jpeg"/>
  <Override PartName="/ppt/media/image98.jpeg" ContentType="image/jpeg"/>
  <Override PartName="/ppt/media/image72.png" ContentType="image/png"/>
  <Override PartName="/ppt/media/image7.gif" ContentType="image/gif"/>
  <Override PartName="/ppt/media/image29.jpeg" ContentType="image/jpeg"/>
  <Override PartName="/ppt/media/image63.png" ContentType="image/png"/>
  <Override PartName="/ppt/media/image77.gif" ContentType="image/gif"/>
  <Override PartName="/ppt/media/image108.jpeg" ContentType="image/jpeg"/>
  <Override PartName="/ppt/media/image60.png" ContentType="image/png"/>
  <Override PartName="/ppt/media/image61.png" ContentType="image/png"/>
  <Override PartName="/ppt/media/image97.jpeg" ContentType="image/jpeg"/>
  <Override PartName="/ppt/media/image62.png" ContentType="image/png"/>
  <Override PartName="/ppt/media/image96.jpeg" ContentType="image/jpeg"/>
  <Override PartName="/ppt/media/image64.png" ContentType="image/png"/>
  <Override PartName="/ppt/media/image69.png" ContentType="image/png"/>
  <Override PartName="/ppt/media/image70.png" ContentType="image/png"/>
  <Override PartName="/ppt/media/image91.jpeg" ContentType="image/jpeg"/>
  <Override PartName="/ppt/media/image111.jpeg" ContentType="image/jpeg"/>
  <Override PartName="/ppt/media/image71.png" ContentType="image/png"/>
  <Override PartName="/ppt/media/image73.png" ContentType="image/png"/>
  <Override PartName="/ppt/media/image88.gif" ContentType="image/gif"/>
  <Override PartName="/ppt/media/image74.png" ContentType="image/png"/>
  <Override PartName="/ppt/media/image76.jpeg" ContentType="image/jpeg"/>
  <Override PartName="/ppt/media/image65.png" ContentType="image/png"/>
  <Override PartName="/ppt/media/image78.jpeg" ContentType="image/jpeg"/>
  <Override PartName="/ppt/media/image79.gif" ContentType="image/gif"/>
  <Override PartName="/ppt/media/image41.jpeg" ContentType="image/jpeg"/>
  <Override PartName="/ppt/media/image84.wmf" ContentType="image/x-wmf"/>
  <Override PartName="/ppt/media/image113.png" ContentType="image/png"/>
  <Override PartName="/ppt/media/image87.jpeg" ContentType="image/jpeg"/>
  <Override PartName="/ppt/media/image107.jpeg" ContentType="image/jpeg"/>
  <Override PartName="/ppt/media/image121.png" ContentType="image/png"/>
  <Override PartName="/ppt/media/image89.jpeg" ContentType="image/jpeg"/>
  <Override PartName="/ppt/media/image32.png" ContentType="image/png"/>
  <Override PartName="/ppt/media/image94.jpeg" ContentType="image/jpeg"/>
  <Override PartName="/ppt/media/image95.jpeg" ContentType="image/jpeg"/>
  <Override PartName="/ppt/media/image14.png" ContentType="image/png"/>
  <Override PartName="/ppt/media/image99.jpeg" ContentType="image/jpeg"/>
  <Override PartName="/ppt/media/image104.jpeg" ContentType="image/jpeg"/>
  <Override PartName="/ppt/media/image105.jpeg" ContentType="image/jpeg"/>
  <Override PartName="/ppt/media/image109.jpeg" ContentType="image/jpeg"/>
  <Override PartName="/ppt/media/image114.jpeg" ContentType="image/jpeg"/>
  <Override PartName="/ppt/media/image67.png" ContentType="image/png"/>
  <Override PartName="/ppt/media/image115.jpeg" ContentType="image/jpeg"/>
  <Override PartName="/ppt/media/image122.png" ContentType="image/png"/>
  <Override PartName="/ppt/media/image82.wmf" ContentType="image/x-wmf"/>
  <Override PartName="/ppt/media/image123.jpeg" ContentType="image/jpeg"/>
  <Override PartName="/ppt/media/image124.jpeg" ContentType="image/jpeg"/>
  <Override PartName="/ppt/media/image12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3E47-B869-44F8-96E8-68AF5E45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2EA1-4DD5-469A-B171-8CFD6CF3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AAE6-1352-4230-9BD3-B7817412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1BF5-B8A9-4B00-A50E-49D3F32F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0BFA-9D22-48A3-8468-595D5C5D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08A4-E2C4-40D5-929A-48EDA36D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C164-E5F4-4805-A384-9B160373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937A-0C68-49E5-AEB3-ADD69054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CC0A-F399-4E47-B4D0-343CBD5B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967D-9D30-418B-917B-4E49FF86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2AD2-23E9-4C97-B28A-10A2B64C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EADD-AD03-4176-AAE0-28B9830E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0645-C12E-4EEA-B762-A3619951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CCEB-7481-422D-AC97-EB0C716A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4267-1640-4760-9A92-90768FBA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5129-DE94-4510-8DC6-6A81B037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D8F1-ABB5-4E19-9404-E2B77593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98B57-B4CD-4852-85C9-BB34646C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78AE08-279A-43FF-890D-5D441B2E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F42715-209E-444A-9712-578A6E51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FA6D50-C55A-45BA-86D5-6C1D24AE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E63AB3-1237-4BE1-8E84-48025B94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4C09-E507-422A-B2BB-0617D276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BA04BE-EF92-4777-A0B4-0F947641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1642A3-3A64-4962-9247-0711B35E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6991F8-667A-4636-A8E6-DF6CB4A3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760D82-2D76-4E8C-9566-A4CAD3ED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F6F67A-0575-46D2-AA69-99AA6013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170E00-5CE7-4B43-940A-E2AF3974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50D76B-1C1B-4676-A93D-429265A2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C3FF4-520F-4F61-B734-0C651CEB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B26BC-6784-42BF-AA8D-6D421500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B718D-1EE0-4A5C-B97D-7BEC6144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DD1C-CB1B-445A-9084-490F9611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4ED86-B065-49BA-B091-A6ECA8C2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AFF6A-7055-46B2-9A68-C6BF6836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B5A9C-9BE7-48D2-8043-7EB3F48B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DCCA3-8A2A-475B-9C2E-3A6DC517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AFA8F-838D-4842-9C03-970D37B6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A2DBB-4C7B-4B75-BC88-7D4746B1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15EEA-7607-4B44-81C9-2B773EEE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E327C-8790-42AD-A00C-AA72214A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630C9-CC1E-40AF-9A5F-9A5AF9EB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61695-4508-437A-BE14-E01F63AD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5F89-16B8-4A9D-90DE-208B4EB6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3D626-B778-44EB-A12A-D7434C89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E45D8-EAEC-4EA4-A3EC-930363F9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043DF-FF70-4103-AF1B-28AA941B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9DED2-8034-4A81-BB53-D11B0830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5B228-57C2-45AA-B2CD-6C72B4C8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F9C0F-9CBF-4038-A811-215EEE60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55E85-C339-479A-AF4D-14947429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34ECE-68E1-44CB-B362-DB135FFE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7334E-C3DF-4FA5-8556-E9DA92FF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1F70F-D3F0-42E7-A080-73501E5E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C010-F762-4362-A154-6BE32E9E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426ED-5638-42B2-AFD7-B94B2744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6AE0A-C11E-49BA-A800-3FD27070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C01DC-8F36-4ABD-B7D8-DB5C8409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7ADC5-859D-44B9-8AF5-B5181DCA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13310-BDCF-46B5-848A-DA409FBC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82B0B-BBDB-416C-8D79-DB949A61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38893-B8E7-4CE3-A4BA-29548FEC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B819A-504A-468F-9226-05321435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C898D-1745-40B1-BE7A-0DB0AADD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9B357-4C66-4529-A8AA-C866D8CB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8CA9-66CF-4D9E-A5BB-620C28E6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819B3-BD4B-407F-B0C9-9B1282B6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76D06-2DAE-41AA-96BA-7CC18BBF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4C517-EF09-4E50-89CD-DF57264E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E47A-D1A4-41E0-BDB4-77E8A454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E2D2-7C82-423C-96D3-393789D4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777E-4CF7-4747-95B2-47EDEE47CF0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C510-C0AC-4943-9520-343D3C106F4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5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BA28-7959-4437-B258-E5E9EC42D05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1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F482-ADA0-4876-8680-7C88E8DC716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75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88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FDB4-7554-4E2C-BC55-62C06239D12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55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68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77BB-AE0A-49B8-B3AE-B5ED9653FD5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hyperlink" Target="file:///Archivos%20de%20la%20Presentaci&#243;n%20Los%20Medios%20de%20Comunicaci&#231;on/TODOSLOSPROTAGONISTASDELANUNCIODEFREIXENET.doc" TargetMode="External"/><Relationship Id="rId5" Type="http://schemas.openxmlformats.org/officeDocument/2006/relationships/hyperlink" Target="http://www.osborne.es/" TargetMode="External"/><Relationship Id="rId6" Type="http://schemas.openxmlformats.org/officeDocument/2006/relationships/hyperlink" Target="http://www.osborne.es/" TargetMode="External"/><Relationship Id="rId7" Type="http://schemas.openxmlformats.org/officeDocument/2006/relationships/hyperlink" Target="http://www.osborne.es/" TargetMode="External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hyperlink" Target="file:///Archivos%20de%20la%20Presentaci&#243;n%20Los%20Medios%20de%20Comunicaci&#231;on/MCDONALD.doc" TargetMode="External"/><Relationship Id="rId11" Type="http://schemas.openxmlformats.org/officeDocument/2006/relationships/hyperlink" Target="file:///pop%20publicidad/ARCHIVOS%20PUBLICIDAD/MCDONALD.doc" TargetMode="External"/><Relationship Id="rId12" Type="http://schemas.openxmlformats.org/officeDocument/2006/relationships/hyperlink" Target="file:///pop%20publicidad/ARCHIVOS%20PUBLICIDAD/MCDONALD.doc" TargetMode="External"/><Relationship Id="rId13" Type="http://schemas.openxmlformats.org/officeDocument/2006/relationships/image" Target="../media/image43.jpeg"/><Relationship Id="rId14" Type="http://schemas.openxmlformats.org/officeDocument/2006/relationships/image" Target="../media/image44.png"/><Relationship Id="rId15" Type="http://schemas.openxmlformats.org/officeDocument/2006/relationships/image" Target="../media/image45.jpeg"/><Relationship Id="rId16" Type="http://schemas.openxmlformats.org/officeDocument/2006/relationships/slideLayout" Target="../slideLayouts/slideLayout5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file:///Archivos%20de%20la%20Presentaci&#243;n%20Los%20Medios%20de%20Comunicaci&#231;on/CAMPA&#209;ADEAMNISTIAINTERNACIONAL(mio).doc" TargetMode="External"/><Relationship Id="rId3" Type="http://schemas.openxmlformats.org/officeDocument/2006/relationships/hyperlink" Target="file:///Archivos%20de%20la%20Presentaci&#243;n%20Los%20Medios%20de%20Comunicaci&#231;on/losserrano.doc" TargetMode="External"/><Relationship Id="rId4" Type="http://schemas.openxmlformats.org/officeDocument/2006/relationships/hyperlink" Target="file:///Archivos%20de%20la%20Presentaci&#243;n%20Los%20Medios%20de%20Comunicaci&#231;on/elbarcelonasiguesinpatrocinador.doc" TargetMode="External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hyperlink" Target="file:///Archivos%20de%20la%20Presentaci&#243;n%20Los%20Medios%20de%20Comunicaci&#231;on/Rostrosfamososenlapublicidad.doc" TargetMode="External"/><Relationship Id="rId8" Type="http://schemas.openxmlformats.org/officeDocument/2006/relationships/oleObject" Target="../embeddings/oleObject1.bin"/><Relationship Id="rId9" Type="http://schemas.openxmlformats.org/officeDocument/2006/relationships/image" Target="../media/image49.wmf"/><Relationship Id="rId10" Type="http://schemas.openxmlformats.org/officeDocument/2006/relationships/slideLayout" Target="../slideLayouts/slideLayout5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Archivos%20de%20la%20Presentaci&#243;n%20Los%20Medios%20de%20Comunicaci&#231;on/dgt.doc" TargetMode="External"/><Relationship Id="rId2" Type="http://schemas.openxmlformats.org/officeDocument/2006/relationships/hyperlink" Target="file:///Archivos%20de%20la%20Presentaci&#243;n%20Los%20Medios%20de%20Comunicaci&#231;on/dgt.doc" TargetMode="External"/><Relationship Id="rId3" Type="http://schemas.openxmlformats.org/officeDocument/2006/relationships/hyperlink" Target="file:///Archivos%20de%20la%20Presentaci&#243;n%20Los%20Medios%20de%20Comunicaci&#231;on/LOSTRANSEXUALESCONTRAAA.doc" TargetMode="External"/><Relationship Id="rId4" Type="http://schemas.openxmlformats.org/officeDocument/2006/relationships/hyperlink" Target="file:///Archivos%20de%20la%20Presentaci&#243;n%20Los%20Medios%20de%20Comunicaci&#231;on/LOSTRANSEXUALESCONTRAAA.doc" TargetMode="External"/><Relationship Id="rId5" Type="http://schemas.openxmlformats.org/officeDocument/2006/relationships/hyperlink" Target="file:///Archivos%20de%20la%20Presentaci&#243;n%20Los%20Medios%20de%20Comunicaci&#231;on/LOSTRANSEXUALESCONTRAAA.doc" TargetMode="External"/><Relationship Id="rId6" Type="http://schemas.openxmlformats.org/officeDocument/2006/relationships/hyperlink" Target="file:///Archivos%20de%20la%20Presentaci&#243;n%20Los%20Medios%20de%20Comunicaci&#231;on/LOSTRANSEXUALESCONTRAAA.doc" TargetMode="External"/><Relationship Id="rId7" Type="http://schemas.openxmlformats.org/officeDocument/2006/relationships/hyperlink" Target="file:///Archivos%20de%20la%20Presentaci&#243;n%20Los%20Medios%20de%20Comunicaci&#231;on/LASMUJERESENCELOSONPOL&#205;TICAMENTEINCORRECTAS.doc" TargetMode="External"/><Relationship Id="rId8" Type="http://schemas.openxmlformats.org/officeDocument/2006/relationships/hyperlink" Target="file:///ARCHIVOS%20PUBLICIDAD/LAS%20MUJERES%20EN%20CELO%20SON%20POL&#205;TICAMENTE%20INCORRECTAS.doc" TargetMode="External"/><Relationship Id="rId9" Type="http://schemas.openxmlformats.org/officeDocument/2006/relationships/hyperlink" Target="file:///Archivos%20de%20la%20Presentaci&#243;n%20Los%20Medios%20de%20Comunicaci&#231;on/LACAMPA&#209;ATUR&#205;STICAOFICIALDEESPA&#209;A.doc" TargetMode="External"/><Relationship Id="rId10" Type="http://schemas.openxmlformats.org/officeDocument/2006/relationships/hyperlink" Target="file:///Archivos%20de%20la%20Presentaci&#243;n%20Los%20Medios%20de%20Comunicaci&#231;on/COCACOLA.doc" TargetMode="External"/><Relationship Id="rId11" Type="http://schemas.openxmlformats.org/officeDocument/2006/relationships/hyperlink" Target="file:///Archivos%20de%20la%20Presentaci&#243;n%20Los%20Medios%20de%20Comunicaci&#231;on/LOSBEB&#201;SYCALVE.doc" TargetMode="External"/><Relationship Id="rId12" Type="http://schemas.openxmlformats.org/officeDocument/2006/relationships/image" Target="../media/image1.png"/><Relationship Id="rId13" Type="http://schemas.openxmlformats.org/officeDocument/2006/relationships/hyperlink" Target="file:///Archivos%20de%20la%20Presentaci&#243;n%20Los%20Medios%20de%20Comunicaci&#231;on/ELESC&#193;NDALOBOCATTA.doc" TargetMode="External"/><Relationship Id="rId14" Type="http://schemas.openxmlformats.org/officeDocument/2006/relationships/hyperlink" Target="file:///ELESC&#193;NDALOBOCATTA.doc" TargetMode="External"/><Relationship Id="rId15" Type="http://schemas.openxmlformats.org/officeDocument/2006/relationships/image" Target="../media/image50.png"/><Relationship Id="rId16" Type="http://schemas.openxmlformats.org/officeDocument/2006/relationships/image" Target="../media/image51.png"/><Relationship Id="rId17" Type="http://schemas.openxmlformats.org/officeDocument/2006/relationships/slideLayout" Target="../slideLayouts/slideLayout5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5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5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image" Target="../media/image69.png"/><Relationship Id="rId13" Type="http://schemas.openxmlformats.org/officeDocument/2006/relationships/image" Target="../media/image70.png"/><Relationship Id="rId14" Type="http://schemas.openxmlformats.org/officeDocument/2006/relationships/image" Target="../media/image71.png"/><Relationship Id="rId15" Type="http://schemas.openxmlformats.org/officeDocument/2006/relationships/image" Target="../media/image72.png"/><Relationship Id="rId16" Type="http://schemas.openxmlformats.org/officeDocument/2006/relationships/image" Target="../media/image73.png"/><Relationship Id="rId17" Type="http://schemas.openxmlformats.org/officeDocument/2006/relationships/image" Target="../media/image74.png"/><Relationship Id="rId18" Type="http://schemas.openxmlformats.org/officeDocument/2006/relationships/slideLayout" Target="../slideLayouts/slideLayout5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2.png"/><Relationship Id="rId5" Type="http://schemas.openxmlformats.org/officeDocument/2006/relationships/image" Target="../media/image66.png"/><Relationship Id="rId6" Type="http://schemas.openxmlformats.org/officeDocument/2006/relationships/hyperlink" Target="http://www.los40.com/" TargetMode="External"/><Relationship Id="rId7" Type="http://schemas.openxmlformats.org/officeDocument/2006/relationships/hyperlink" Target="http://www.los40.com/" TargetMode="External"/><Relationship Id="rId8" Type="http://schemas.openxmlformats.org/officeDocument/2006/relationships/hyperlink" Target="http://www.los40.com/" TargetMode="External"/><Relationship Id="rId9" Type="http://schemas.openxmlformats.org/officeDocument/2006/relationships/image" Target="../media/image75.jpeg"/><Relationship Id="rId10" Type="http://schemas.openxmlformats.org/officeDocument/2006/relationships/slideLayout" Target="../slideLayouts/slideLayout5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hyperlink" Target="http://tallermanual.tripod.com/radio/descripcion/v14.htm" TargetMode="External"/><Relationship Id="rId3" Type="http://schemas.openxmlformats.org/officeDocument/2006/relationships/image" Target="../media/image77.gif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5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78.jpeg"/><Relationship Id="rId7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hyperlink" Target="http://www.infojobs.net/" TargetMode="External"/><Relationship Id="rId3" Type="http://schemas.openxmlformats.org/officeDocument/2006/relationships/hyperlink" Target="http://www.infoempleo.com/" TargetMode="External"/><Relationship Id="rId4" Type="http://schemas.openxmlformats.org/officeDocument/2006/relationships/hyperlink" Target="http://www.monsters.es/" TargetMode="External"/><Relationship Id="rId5" Type="http://schemas.openxmlformats.org/officeDocument/2006/relationships/hyperlink" Target="http://www.google.es/" TargetMode="External"/><Relationship Id="rId6" Type="http://schemas.openxmlformats.org/officeDocument/2006/relationships/hyperlink" Target="http://www.msn.es/" TargetMode="External"/><Relationship Id="rId7" Type="http://schemas.openxmlformats.org/officeDocument/2006/relationships/hyperlink" Target="http://www.altavista.com/" TargetMode="External"/><Relationship Id="rId8" Type="http://schemas.openxmlformats.org/officeDocument/2006/relationships/hyperlink" Target="http://www.terra.es/" TargetMode="External"/><Relationship Id="rId9" Type="http://schemas.openxmlformats.org/officeDocument/2006/relationships/hyperlink" Target="http://www.wannadoo.es/" TargetMode="External"/><Relationship Id="rId10" Type="http://schemas.openxmlformats.org/officeDocument/2006/relationships/hyperlink" Target="http://www.ya.com/" TargetMode="External"/><Relationship Id="rId11" Type="http://schemas.openxmlformats.org/officeDocument/2006/relationships/hyperlink" Target="http://www.tiscali.es/" TargetMode="External"/><Relationship Id="rId12" Type="http://schemas.openxmlformats.org/officeDocument/2006/relationships/hyperlink" Target="http://www.hotmail.com/" TargetMode="External"/><Relationship Id="rId13" Type="http://schemas.openxmlformats.org/officeDocument/2006/relationships/hyperlink" Target="http://www.yahoo.es/" TargetMode="External"/><Relationship Id="rId14" Type="http://schemas.openxmlformats.org/officeDocument/2006/relationships/hyperlink" Target="http://www.telefonica.es/" TargetMode="External"/><Relationship Id="rId15" Type="http://schemas.openxmlformats.org/officeDocument/2006/relationships/hyperlink" Target="http://www.amena.com/" TargetMode="External"/><Relationship Id="rId16" Type="http://schemas.openxmlformats.org/officeDocument/2006/relationships/hyperlink" Target="http://www.segundamano.es/" TargetMode="External"/><Relationship Id="rId17" Type="http://schemas.openxmlformats.org/officeDocument/2006/relationships/hyperlink" Target="http://www.qdq.com/" TargetMode="External"/><Relationship Id="rId18" Type="http://schemas.openxmlformats.org/officeDocument/2006/relationships/hyperlink" Target="http://www.paginasamarillas.es/" TargetMode="External"/><Relationship Id="rId19" Type="http://schemas.openxmlformats.org/officeDocument/2006/relationships/hyperlink" Target="http://www.elcorteingles.es/" TargetMode="External"/><Relationship Id="rId20" Type="http://schemas.openxmlformats.org/officeDocument/2006/relationships/hyperlink" Target="http://www.fnac.es/" TargetMode="External"/><Relationship Id="rId21" Type="http://schemas.openxmlformats.org/officeDocument/2006/relationships/hyperlink" Target="http://www.pandasoftware.es/" TargetMode="External"/><Relationship Id="rId22" Type="http://schemas.openxmlformats.org/officeDocument/2006/relationships/hyperlink" Target="http://www.softonic.es/" TargetMode="External"/><Relationship Id="rId23" Type="http://schemas.openxmlformats.org/officeDocument/2006/relationships/hyperlink" Target="http://www.ebay.es/" TargetMode="External"/><Relationship Id="rId24" Type="http://schemas.openxmlformats.org/officeDocument/2006/relationships/image" Target="../media/image79.gif"/><Relationship Id="rId25" Type="http://schemas.openxmlformats.org/officeDocument/2006/relationships/image" Target="../media/image80.png"/><Relationship Id="rId26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2.wmf"/><Relationship Id="rId4" Type="http://schemas.openxmlformats.org/officeDocument/2006/relationships/slideLayout" Target="../slideLayouts/slideLayout56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3.gif"/><Relationship Id="rId5" Type="http://schemas.openxmlformats.org/officeDocument/2006/relationships/oleObject" Target="../embeddings/oleObject1.bin"/><Relationship Id="rId6" Type="http://schemas.openxmlformats.org/officeDocument/2006/relationships/image" Target="../media/image84.wmf"/><Relationship Id="rId7" Type="http://schemas.openxmlformats.org/officeDocument/2006/relationships/slideLayout" Target="../slideLayouts/slideLayout5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tve.es/" TargetMode="External"/><Relationship Id="rId3" Type="http://schemas.openxmlformats.org/officeDocument/2006/relationships/hyperlink" Target="http://www.rtve.es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antena3tv.com/" TargetMode="External"/><Relationship Id="rId6" Type="http://schemas.openxmlformats.org/officeDocument/2006/relationships/hyperlink" Target="http://www.telecinco.es/" TargetMode="External"/><Relationship Id="rId7" Type="http://schemas.openxmlformats.org/officeDocument/2006/relationships/hyperlink" Target="http://www.telecinco.es/" TargetMode="External"/><Relationship Id="rId8" Type="http://schemas.openxmlformats.org/officeDocument/2006/relationships/hyperlink" Target="http://www.telecinco.es/" TargetMode="External"/><Relationship Id="rId9" Type="http://schemas.openxmlformats.org/officeDocument/2006/relationships/image" Target="../media/image1.png"/><Relationship Id="rId10" Type="http://schemas.openxmlformats.org/officeDocument/2006/relationships/hyperlink" Target="http://www.cuatro.com/" TargetMode="External"/><Relationship Id="rId11" Type="http://schemas.openxmlformats.org/officeDocument/2006/relationships/hyperlink" Target="http://www.lasexta.com/" TargetMode="External"/><Relationship Id="rId12" Type="http://schemas.openxmlformats.org/officeDocument/2006/relationships/image" Target="../media/image1.png"/><Relationship Id="rId13" Type="http://schemas.openxmlformats.org/officeDocument/2006/relationships/image" Target="../media/image85.png"/><Relationship Id="rId14" Type="http://schemas.openxmlformats.org/officeDocument/2006/relationships/image" Target="../media/image86.png"/><Relationship Id="rId15" Type="http://schemas.openxmlformats.org/officeDocument/2006/relationships/image" Target="../media/image87.jpeg"/><Relationship Id="rId16" Type="http://schemas.openxmlformats.org/officeDocument/2006/relationships/image" Target="../media/image88.gif"/><Relationship Id="rId17" Type="http://schemas.openxmlformats.org/officeDocument/2006/relationships/image" Target="../media/image89.jpeg"/><Relationship Id="rId18" Type="http://schemas.openxmlformats.org/officeDocument/2006/relationships/image" Target="../media/image90.png"/><Relationship Id="rId19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uentamecomopaso.net/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losserrano.telecinco.es/" TargetMode="External"/><Relationship Id="rId5" Type="http://schemas.openxmlformats.org/officeDocument/2006/relationships/image" Target="../media/image1.png"/><Relationship Id="rId6" Type="http://schemas.openxmlformats.org/officeDocument/2006/relationships/hyperlink" Target="http://www.antena3.com/aquinohayquienviva/" TargetMode="External"/><Relationship Id="rId7" Type="http://schemas.openxmlformats.org/officeDocument/2006/relationships/hyperlink" Target="http://www.7vidas.telecinco.es/" TargetMode="External"/><Relationship Id="rId8" Type="http://schemas.openxmlformats.org/officeDocument/2006/relationships/hyperlink" Target="http://www.aida.telecinco.es/" TargetMode="External"/><Relationship Id="rId9" Type="http://schemas.openxmlformats.org/officeDocument/2006/relationships/image" Target="../media/image1.png"/><Relationship Id="rId10" Type="http://schemas.openxmlformats.org/officeDocument/2006/relationships/hyperlink" Target="http://www.hospitalcentral.telecinco.es/" TargetMode="External"/><Relationship Id="rId11" Type="http://schemas.openxmlformats.org/officeDocument/2006/relationships/hyperlink" Target="http://www.antena3.com/unpasoadelante" TargetMode="External"/><Relationship Id="rId12" Type="http://schemas.openxmlformats.org/officeDocument/2006/relationships/hyperlink" Target="http://www.antena3.com/unpasoadelante" TargetMode="External"/><Relationship Id="rId13" Type="http://schemas.openxmlformats.org/officeDocument/2006/relationships/image" Target="../media/image91.jpeg"/><Relationship Id="rId14" Type="http://schemas.openxmlformats.org/officeDocument/2006/relationships/image" Target="../media/image92.jpeg"/><Relationship Id="rId15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iraquienbaila.es/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antena3.com/millonario" TargetMode="External"/><Relationship Id="rId5" Type="http://schemas.openxmlformats.org/officeDocument/2006/relationships/hyperlink" Target="http://www.antena3.com/millonario" TargetMode="External"/><Relationship Id="rId6" Type="http://schemas.openxmlformats.org/officeDocument/2006/relationships/hyperlink" Target="http://www.antena3.com/millonario" TargetMode="External"/><Relationship Id="rId7" Type="http://schemas.openxmlformats.org/officeDocument/2006/relationships/hyperlink" Target="http://www.antena3.com/millonario" TargetMode="External"/><Relationship Id="rId8" Type="http://schemas.openxmlformats.org/officeDocument/2006/relationships/hyperlink" Target="http://www.antena3.com/millonario" TargetMode="External"/><Relationship Id="rId9" Type="http://schemas.openxmlformats.org/officeDocument/2006/relationships/image" Target="../media/image1.png"/><Relationship Id="rId10" Type="http://schemas.openxmlformats.org/officeDocument/2006/relationships/hyperlink" Target="http://www.elrivalmasdebil.com/" TargetMode="External"/><Relationship Id="rId11" Type="http://schemas.openxmlformats.org/officeDocument/2006/relationships/image" Target="../media/image1.png"/><Relationship Id="rId12" Type="http://schemas.openxmlformats.org/officeDocument/2006/relationships/hyperlink" Target="http://www.granhermano.telecinco.es/" TargetMode="External"/><Relationship Id="rId13" Type="http://schemas.openxmlformats.org/officeDocument/2006/relationships/image" Target="../media/image1.png"/><Relationship Id="rId14" Type="http://schemas.openxmlformats.org/officeDocument/2006/relationships/hyperlink" Target="http://www.telecinco.es/allatu.htm" TargetMode="External"/><Relationship Id="rId15" Type="http://schemas.openxmlformats.org/officeDocument/2006/relationships/hyperlink" Target="http://www.telecinco.es/allatu.htm" TargetMode="External"/><Relationship Id="rId16" Type="http://schemas.openxmlformats.org/officeDocument/2006/relationships/image" Target="../media/image1.png"/><Relationship Id="rId17" Type="http://schemas.openxmlformats.org/officeDocument/2006/relationships/hyperlink" Target="http://www.ot.telecinco.es/" TargetMode="External"/><Relationship Id="rId18" Type="http://schemas.openxmlformats.org/officeDocument/2006/relationships/hyperlink" Target="http://www.ot.telecinco.es/" TargetMode="External"/><Relationship Id="rId19" Type="http://schemas.openxmlformats.org/officeDocument/2006/relationships/image" Target="../media/image1.png"/><Relationship Id="rId20" Type="http://schemas.openxmlformats.org/officeDocument/2006/relationships/hyperlink" Target="http://www.rtve.es/queapostamos" TargetMode="External"/><Relationship Id="rId21" Type="http://schemas.openxmlformats.org/officeDocument/2006/relationships/hyperlink" Target="http://www.rtve.es/queapostamos" TargetMode="External"/><Relationship Id="rId22" Type="http://schemas.openxmlformats.org/officeDocument/2006/relationships/image" Target="../media/image1.png"/><Relationship Id="rId23" Type="http://schemas.openxmlformats.org/officeDocument/2006/relationships/hyperlink" Target="http://www.rtve.es/granprix" TargetMode="External"/><Relationship Id="rId24" Type="http://schemas.openxmlformats.org/officeDocument/2006/relationships/hyperlink" Target="http://www.rtve.es/granprix" TargetMode="External"/><Relationship Id="rId25" Type="http://schemas.openxmlformats.org/officeDocument/2006/relationships/image" Target="../media/image93.jpeg"/><Relationship Id="rId26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narosa.telecinco.es/" TargetMode="External"/><Relationship Id="rId3" Type="http://schemas.openxmlformats.org/officeDocument/2006/relationships/hyperlink" Target="http://www.atulado.telecinco.es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salsarosa.telecinco.es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antena3.com/corazon/" TargetMode="External"/><Relationship Id="rId8" Type="http://schemas.openxmlformats.org/officeDocument/2006/relationships/image" Target="../media/image1.png"/><Relationship Id="rId9" Type="http://schemas.openxmlformats.org/officeDocument/2006/relationships/hyperlink" Target="http://www.aquihaytomate.telecinco.es/" TargetMode="External"/><Relationship Id="rId10" Type="http://schemas.openxmlformats.org/officeDocument/2006/relationships/hyperlink" Target="http://www.aquihaytomate.telecinco.es/" TargetMode="External"/><Relationship Id="rId11" Type="http://schemas.openxmlformats.org/officeDocument/2006/relationships/hyperlink" Target="http://www.aquihaytomate.telecinco.es/" TargetMode="External"/><Relationship Id="rId12" Type="http://schemas.openxmlformats.org/officeDocument/2006/relationships/image" Target="../media/image94.jpeg"/><Relationship Id="rId13" Type="http://schemas.openxmlformats.org/officeDocument/2006/relationships/slideLayout" Target="../slideLayouts/slideLayout5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6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5.jpeg"/><Relationship Id="rId6" Type="http://schemas.openxmlformats.org/officeDocument/2006/relationships/image" Target="../media/image96.jpeg"/><Relationship Id="rId7" Type="http://schemas.openxmlformats.org/officeDocument/2006/relationships/slideLayout" Target="../slideLayouts/slideLayout56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7.jpeg"/><Relationship Id="rId6" Type="http://schemas.openxmlformats.org/officeDocument/2006/relationships/image" Target="../media/image98.jpeg"/><Relationship Id="rId7" Type="http://schemas.openxmlformats.org/officeDocument/2006/relationships/image" Target="../media/image99.jpeg"/><Relationship Id="rId8" Type="http://schemas.openxmlformats.org/officeDocument/2006/relationships/image" Target="../media/image100.jpeg"/><Relationship Id="rId9" Type="http://schemas.openxmlformats.org/officeDocument/2006/relationships/image" Target="../media/image101.jpeg"/><Relationship Id="rId10" Type="http://schemas.openxmlformats.org/officeDocument/2006/relationships/image" Target="../media/image102.jpeg"/><Relationship Id="rId11" Type="http://schemas.openxmlformats.org/officeDocument/2006/relationships/image" Target="../media/image103.jpeg"/><Relationship Id="rId12" Type="http://schemas.openxmlformats.org/officeDocument/2006/relationships/image" Target="../media/image104.jpeg"/><Relationship Id="rId13" Type="http://schemas.openxmlformats.org/officeDocument/2006/relationships/image" Target="../media/image105.jpeg"/><Relationship Id="rId14" Type="http://schemas.openxmlformats.org/officeDocument/2006/relationships/image" Target="../media/image106.jpeg"/><Relationship Id="rId15" Type="http://schemas.openxmlformats.org/officeDocument/2006/relationships/image" Target="../media/image107.jpeg"/><Relationship Id="rId16" Type="http://schemas.openxmlformats.org/officeDocument/2006/relationships/image" Target="../media/image108.jpeg"/><Relationship Id="rId17" Type="http://schemas.openxmlformats.org/officeDocument/2006/relationships/slideLayout" Target="../slideLayouts/slideLayout56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image" Target="../media/image110.png"/><Relationship Id="rId3" Type="http://schemas.openxmlformats.org/officeDocument/2006/relationships/image" Target="../media/image111.jpeg"/><Relationship Id="rId4" Type="http://schemas.openxmlformats.org/officeDocument/2006/relationships/image" Target="../media/image112.jpeg"/><Relationship Id="rId5" Type="http://schemas.openxmlformats.org/officeDocument/2006/relationships/image" Target="../media/image113.png"/><Relationship Id="rId6" Type="http://schemas.openxmlformats.org/officeDocument/2006/relationships/image" Target="../media/image114.jpeg"/><Relationship Id="rId7" Type="http://schemas.openxmlformats.org/officeDocument/2006/relationships/image" Target="../media/image115.jpeg"/><Relationship Id="rId8" Type="http://schemas.openxmlformats.org/officeDocument/2006/relationships/image" Target="../media/image116.jpeg"/><Relationship Id="rId9" Type="http://schemas.openxmlformats.org/officeDocument/2006/relationships/image" Target="../media/image117.jpeg"/><Relationship Id="rId10" Type="http://schemas.openxmlformats.org/officeDocument/2006/relationships/image" Target="../media/image118.jpeg"/><Relationship Id="rId11" Type="http://schemas.openxmlformats.org/officeDocument/2006/relationships/slideLayout" Target="../slideLayouts/slideLayout5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utopiasoft.net/ssebas/premio.htm" TargetMode="External"/><Relationship Id="rId2" Type="http://schemas.openxmlformats.org/officeDocument/2006/relationships/image" Target="../media/image119.jpeg"/><Relationship Id="rId3" Type="http://schemas.openxmlformats.org/officeDocument/2006/relationships/hyperlink" Target="http://uk.wrs.yahoo.com/_ylt=A9htdaN1GNZDrYAAFBJNBQx.;_ylu=X3oDMTA2bTQ0OXZjBHNlYwNzcg--/SIG=1hkpsrn3c/EXP=1138190837/**http%3A//uk.search.yahoo.com/search/images/view%3Fback=http%253A%252F%252Fuk.search.yahoo.com%252Fsearch%252Fimages%253Fp%253Dlos%252Bgoya%2526ei%253DUTF-8%2526fl%253D0%2526fr%253DFP-tab-img-t%2526b%253D21%26w=200%26h=280%26imgurl=www.lasprovincias.es%252FRC%252F200512%252F15%252FMedia%252Fgoya--200x280.jpg%26rurl=http%253A%252F%252Fwww.lasprovincias.es%252Fvalencia%252Fpg051215%252Factualidad%252Fcultura%252F200512%252F15%252FRC-goya.html%26size=8.6kB%26name=goya--200x280.jpg%26p=los%2Bgoya%26type=jpeg%26no=24%26tt=3,103%26ei=UTF-8%26src=p" TargetMode="External"/><Relationship Id="rId4" Type="http://schemas.openxmlformats.org/officeDocument/2006/relationships/image" Target="../media/image120.jpeg"/><Relationship Id="rId5" Type="http://schemas.openxmlformats.org/officeDocument/2006/relationships/hyperlink" Target="http://www.melies.org/" TargetMode="External"/><Relationship Id="rId6" Type="http://schemas.openxmlformats.org/officeDocument/2006/relationships/image" Target="../media/image121.png"/><Relationship Id="rId7" Type="http://schemas.openxmlformats.org/officeDocument/2006/relationships/hyperlink" Target="http://www.melies.org/" TargetMode="External"/><Relationship Id="rId8" Type="http://schemas.openxmlformats.org/officeDocument/2006/relationships/image" Target="../media/image122.png"/><Relationship Id="rId9" Type="http://schemas.openxmlformats.org/officeDocument/2006/relationships/image" Target="../media/image123.jpeg"/><Relationship Id="rId10" Type="http://schemas.openxmlformats.org/officeDocument/2006/relationships/slideLayout" Target="../slideLayouts/slideLayout3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4.jpeg"/><Relationship Id="rId2" Type="http://schemas.openxmlformats.org/officeDocument/2006/relationships/image" Target="../media/image125.jpeg"/><Relationship Id="rId3" Type="http://schemas.openxmlformats.org/officeDocument/2006/relationships/image" Target="../media/image126.png"/><Relationship Id="rId4" Type="http://schemas.openxmlformats.org/officeDocument/2006/relationships/hyperlink" Target="file:///../BIOGRAFIADEGARCI.doc" TargetMode="External"/><Relationship Id="rId5" Type="http://schemas.openxmlformats.org/officeDocument/2006/relationships/hyperlink" Target="file:///Archivos%20de%20la%20Presentaci&#243;n%20Los%20Medios%20de%20Comunicaci&#231;on/BIOGRAFIADEGARCI.doc" TargetMode="External"/><Relationship Id="rId6" Type="http://schemas.openxmlformats.org/officeDocument/2006/relationships/hyperlink" Target="file:///Archivos%20de%20la%20Presentaci&#243;n%20Los%20Medios%20de%20Comunicaci&#231;on/BIOGRAFIADEGARCI.doc" TargetMode="External"/><Relationship Id="rId7" Type="http://schemas.openxmlformats.org/officeDocument/2006/relationships/hyperlink" Target="file:///Archivos%20de%20la%20Presentaci&#243;n%20Los%20Medios%20de%20Comunicaci&#231;on/BIOGRAFIADEGARCI.doc" TargetMode="External"/><Relationship Id="rId8" Type="http://schemas.openxmlformats.org/officeDocument/2006/relationships/hyperlink" Target="file:///Archivos%20de%20la%20Presentaci&#243;n%20Los%20Medios%20de%20Comunicaci&#231;on/BIOGRAFIADEGARCI.doc" TargetMode="External"/><Relationship Id="rId9" Type="http://schemas.openxmlformats.org/officeDocument/2006/relationships/hyperlink" Target="file:///Archivos%20de%20la%20Presentaci&#243;n%20Los%20Medios%20de%20Comunicaci&#231;on/BIOGRAFIADEGARCI.doc" TargetMode="External"/><Relationship Id="rId10" Type="http://schemas.openxmlformats.org/officeDocument/2006/relationships/hyperlink" Target="file:///Archivos%20de%20la%20Presentaci&#243;n%20Los%20Medios%20de%20Comunicaci&#231;on/SINOPSISDEVOLVERAEMPEZAR.doc" TargetMode="External"/><Relationship Id="rId11" Type="http://schemas.openxmlformats.org/officeDocument/2006/relationships/hyperlink" Target="file:///Archivos%20de%20la%20Presentaci&#243;n%20Los%20Medios%20de%20Comunicaci&#231;on/SINOPSISDEVOLVERAEMPEZAR.doc" TargetMode="External"/><Relationship Id="rId12" Type="http://schemas.openxmlformats.org/officeDocument/2006/relationships/hyperlink" Target="file:///Archivos%20de%20la%20Presentaci&#243;n%20Los%20Medios%20de%20Comunicaci&#231;on/SINOPSISDEVOLVERAEMPEZAR.doc" TargetMode="External"/><Relationship Id="rId13" Type="http://schemas.openxmlformats.org/officeDocument/2006/relationships/hyperlink" Target="file:///Archivos%20de%20la%20Presentaci&#243;n%20Los%20Medios%20de%20Comunicaci&#231;on/SINOPSISDEVOLVERAEMPEZAR.doc" TargetMode="External"/><Relationship Id="rId14" Type="http://schemas.openxmlformats.org/officeDocument/2006/relationships/hyperlink" Target="file:///Archivos%20de%20la%20Presentaci&#243;n%20Los%20Medios%20de%20Comunicaci&#231;on/SINOPSISDEVOLVERAEMPEZAR.doc" TargetMode="External"/><Relationship Id="rId15" Type="http://schemas.openxmlformats.org/officeDocument/2006/relationships/hyperlink" Target="file:///Archivos%20de%20la%20Presentaci&#243;n%20Los%20Medios%20de%20Comunicaci&#231;on/SINOPSISDEVOLVERAEMPEZAR.doc" TargetMode="External"/><Relationship Id="rId16" Type="http://schemas.openxmlformats.org/officeDocument/2006/relationships/hyperlink" Target="file:///Archivos%20de%20la%20Presentaci&#243;n%20Los%20Medios%20de%20Comunicaci&#231;on/BIOGRAFIADEPEDROALMODOVAR.doc" TargetMode="External"/><Relationship Id="rId17" Type="http://schemas.openxmlformats.org/officeDocument/2006/relationships/hyperlink" Target="file:///Archivos%20de%20la%20Presentaci&#243;n%20Los%20Medios%20de%20Comunicaci&#231;on/BIOGRAFIADEPEDROALMODOVAR.doc" TargetMode="External"/><Relationship Id="rId18" Type="http://schemas.openxmlformats.org/officeDocument/2006/relationships/hyperlink" Target="file:///../SINOPSISTODOSOBREMIMADRE.doc" TargetMode="External"/><Relationship Id="rId19" Type="http://schemas.openxmlformats.org/officeDocument/2006/relationships/image" Target="../media/image127.jpeg"/><Relationship Id="rId20" Type="http://schemas.openxmlformats.org/officeDocument/2006/relationships/hyperlink" Target="file:///../SINOPSISHABLECONELLA.doc" TargetMode="External"/><Relationship Id="rId21" Type="http://schemas.openxmlformats.org/officeDocument/2006/relationships/hyperlink" Target="file:///../SINOPSISDEMARADENTRO.doc" TargetMode="External"/><Relationship Id="rId22" Type="http://schemas.openxmlformats.org/officeDocument/2006/relationships/image" Target="../media/image128.jpeg"/><Relationship Id="rId23" Type="http://schemas.openxmlformats.org/officeDocument/2006/relationships/image" Target="../media/image129.jpeg"/><Relationship Id="rId2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file:///Archivos%20de%20la%20Presentaci&#243;n%20Los%20Medios%20de%20Comunicaci&#231;on/polemicaprensarosa.doc" TargetMode="External"/><Relationship Id="rId5" Type="http://schemas.openxmlformats.org/officeDocument/2006/relationships/image" Target="../media/image18.wmf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5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5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5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6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209680" y="2133360"/>
            <a:ext cx="5943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600200" y="3200400"/>
            <a:ext cx="6400800" cy="1523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69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Unicode MS"/>
              </a:rPr>
              <a:t>Los Medios </a:t>
            </a:r>
            <a:endParaRPr b="1" lang="en-US" sz="40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Unicode MS"/>
              </a:rPr>
              <a:t>de Comunicación</a:t>
            </a:r>
            <a:endParaRPr b="1" lang="en-US" sz="40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Unicode MS"/>
              <a:ea typeface="Arial Unicode MS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7620120" y="457200"/>
            <a:ext cx="1218960" cy="91440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1295640" cy="106704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1143000" cy="13428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4"/>
          <a:stretch/>
        </p:blipFill>
        <p:spPr>
          <a:xfrm>
            <a:off x="4038480" y="5257800"/>
            <a:ext cx="1295640" cy="121932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5"/>
          <a:stretch/>
        </p:blipFill>
        <p:spPr>
          <a:xfrm>
            <a:off x="7543800" y="5410080"/>
            <a:ext cx="1371600" cy="106704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914400" y="1676520"/>
            <a:ext cx="0" cy="3429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676520" y="990720"/>
            <a:ext cx="20574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638680" y="990720"/>
            <a:ext cx="198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610480" y="1371600"/>
            <a:ext cx="0" cy="457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066680" y="6019920"/>
            <a:ext cx="29718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334120" y="6019920"/>
            <a:ext cx="23619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6"/>
          <a:stretch/>
        </p:blipFill>
        <p:spPr>
          <a:xfrm>
            <a:off x="3733920" y="304920"/>
            <a:ext cx="1904760" cy="1307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228240" y="1773360"/>
            <a:ext cx="8915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a3d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De los 4.922 anuncios de TV diarios los espectadores sólo ven 77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a3d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Un 80% de la inversión publicitaria en radio se concentra en tres grupos: Ser, Cope y Onda Cer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a3d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El cine es un medio para incluir imágenes de productos prohibidos en televisión (bebidas alcohólicas o tabaco) y negocios del barri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a3d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Las vallas publicitarias sólo pueden estar en ciudades y carreteras no nacional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ba3d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Zara, Mercadona y Aquarius han demostrado que la publicidad es prescindible. Su éxito comercial abre el debate sobre la eficacia de la comunicación comercial</a:t>
            </a: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a3d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Los sectores que más invierten en publicidad en Internet son: telecomunicaciones (17,9%), las finanzas (16,25%), portales (11%) y automoción (9,8%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304920" y="0"/>
            <a:ext cx="8838720" cy="1612440"/>
            <a:chOff x="304920" y="0"/>
            <a:chExt cx="8838720" cy="1612440"/>
          </a:xfrm>
        </p:grpSpPr>
        <p:sp>
          <p:nvSpPr>
            <p:cNvPr id="709" name=""/>
            <p:cNvSpPr txBox="1"/>
            <p:nvPr/>
          </p:nvSpPr>
          <p:spPr>
            <a:xfrm>
              <a:off x="4076640" y="698400"/>
              <a:ext cx="1066320" cy="76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99ff"/>
                  </a:solidFill>
                  <a:latin typeface="Impact"/>
                </a:rPr>
                <a:t>dato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  <a:ea typeface="Impact"/>
              </a:endParaRPr>
            </a:p>
          </p:txBody>
        </p:sp>
        <p:grpSp>
          <p:nvGrpSpPr>
            <p:cNvPr id="710" name=""/>
            <p:cNvGrpSpPr/>
            <p:nvPr/>
          </p:nvGrpSpPr>
          <p:grpSpPr>
            <a:xfrm>
              <a:off x="304920" y="0"/>
              <a:ext cx="8838720" cy="1612440"/>
              <a:chOff x="304920" y="0"/>
              <a:chExt cx="8838720" cy="1612440"/>
            </a:xfrm>
          </p:grpSpPr>
          <p:sp>
            <p:nvSpPr>
              <p:cNvPr id="711" name=""/>
              <p:cNvSpPr txBox="1"/>
              <p:nvPr/>
            </p:nvSpPr>
            <p:spPr>
              <a:xfrm>
                <a:off x="2469960" y="0"/>
                <a:ext cx="4463640" cy="1079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2622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99ccff"/>
                    </a:solidFill>
                    <a:latin typeface="Trebuchet MS"/>
                  </a:rPr>
                  <a:t>la publicidad</a:t>
                </a:r>
                <a:endParaRPr b="0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ccff"/>
                  </a:solidFill>
                  <a:latin typeface="Trebuchet MS"/>
                  <a:ea typeface="Trebuchet MS"/>
                </a:endParaRPr>
              </a:p>
            </p:txBody>
          </p:sp>
          <p:grpSp>
            <p:nvGrpSpPr>
              <p:cNvPr id="712" name=""/>
              <p:cNvGrpSpPr/>
              <p:nvPr/>
            </p:nvGrpSpPr>
            <p:grpSpPr>
              <a:xfrm>
                <a:off x="304920" y="12600"/>
                <a:ext cx="8838720" cy="1599840"/>
                <a:chOff x="304920" y="12600"/>
                <a:chExt cx="8838720" cy="1599840"/>
              </a:xfrm>
            </p:grpSpPr>
            <p:pic>
              <p:nvPicPr>
                <p:cNvPr id="71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380000" y="51840"/>
                  <a:ext cx="1763640" cy="156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04920" y="12600"/>
                  <a:ext cx="1828440" cy="159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715" name="" descr=""/>
          <p:cNvPicPr/>
          <p:nvPr/>
        </p:nvPicPr>
        <p:blipFill>
          <a:blip r:embed="rId3"/>
          <a:stretch/>
        </p:blipFill>
        <p:spPr>
          <a:xfrm>
            <a:off x="684360" y="5229360"/>
            <a:ext cx="2280960" cy="130644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4"/>
          <a:stretch/>
        </p:blipFill>
        <p:spPr>
          <a:xfrm>
            <a:off x="4211640" y="4941720"/>
            <a:ext cx="1197000" cy="158436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5"/>
          <a:stretch/>
        </p:blipFill>
        <p:spPr>
          <a:xfrm>
            <a:off x="6588000" y="5300640"/>
            <a:ext cx="1692360" cy="13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8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8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8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2652840" y="4295880"/>
            <a:ext cx="1338120" cy="137772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1319040" y="4292640"/>
            <a:ext cx="1355760" cy="952560"/>
          </a:xfrm>
          <a:prstGeom prst="rect">
            <a:avLst/>
          </a:prstGeom>
          <a:ln w="0">
            <a:noFill/>
          </a:ln>
        </p:spPr>
      </p:pic>
      <p:pic>
        <p:nvPicPr>
          <p:cNvPr id="720" name="" descr=""/>
          <p:cNvPicPr/>
          <p:nvPr/>
        </p:nvPicPr>
        <p:blipFill>
          <a:blip r:embed="rId3"/>
          <a:stretch/>
        </p:blipFill>
        <p:spPr>
          <a:xfrm>
            <a:off x="539640" y="4729320"/>
            <a:ext cx="1224000" cy="95868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324000" y="5560200"/>
            <a:ext cx="45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Tahoma"/>
                <a:hlinkClick r:id="rId4"/>
              </a:rPr>
              <a:t>Freixenet</a:t>
            </a:r>
            <a:r>
              <a:rPr b="1" lang="es-ES_tradnl" sz="1600" spc="-1" strike="noStrike">
                <a:solidFill>
                  <a:srgbClr val="ffcc00"/>
                </a:solidFill>
                <a:latin typeface="Tahoma"/>
              </a:rPr>
              <a:t> es un ejemplo de un “anuncio anunciado”. Las noticias, la prensa anuncian su emisión como si de una película se tratase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1752480" y="347760"/>
            <a:ext cx="5616720" cy="490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Verdana"/>
              </a:rPr>
              <a:t>más que anunci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Verdana"/>
              <a:ea typeface="Verdana"/>
            </a:endParaRPr>
          </a:p>
        </p:txBody>
      </p:sp>
      <p:sp>
        <p:nvSpPr>
          <p:cNvPr id="723" name=""/>
          <p:cNvSpPr/>
          <p:nvPr/>
        </p:nvSpPr>
        <p:spPr>
          <a:xfrm>
            <a:off x="5580000" y="5097600"/>
            <a:ext cx="32004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Tahoma"/>
                <a:hlinkClick r:id="rId5"/>
              </a:rPr>
              <a:t>El toro de 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Tahoma"/>
                <a:hlinkClick r:id="rId6"/>
              </a:rPr>
              <a:t>Osborne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Tahoma"/>
                <a:hlinkClick r:id="rId7"/>
              </a:rPr>
              <a:t> </a:t>
            </a:r>
            <a:r>
              <a:rPr b="1" lang="es-ES_tradnl" sz="1600" spc="-1" strike="noStrike">
                <a:solidFill>
                  <a:srgbClr val="ffcc00"/>
                </a:solidFill>
                <a:latin typeface="Tahoma"/>
              </a:rPr>
              <a:t>es la única valla publicitaria situada fuera de la ciudad, que puede considerarse perteneciente al paisaje nacional.</a:t>
            </a:r>
            <a:r>
              <a:rPr b="1" lang="es-ES_tradnl" sz="1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8"/>
          <a:stretch/>
        </p:blipFill>
        <p:spPr>
          <a:xfrm>
            <a:off x="5651640" y="981000"/>
            <a:ext cx="2282760" cy="307836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9"/>
          <a:stretch/>
        </p:blipFill>
        <p:spPr>
          <a:xfrm>
            <a:off x="6875640" y="3186000"/>
            <a:ext cx="2057400" cy="1731960"/>
          </a:xfrm>
          <a:prstGeom prst="rect">
            <a:avLst/>
          </a:prstGeom>
          <a:ln w="0">
            <a:noFill/>
          </a:ln>
        </p:spPr>
      </p:pic>
      <p:grpSp>
        <p:nvGrpSpPr>
          <p:cNvPr id="726" name=""/>
          <p:cNvGrpSpPr/>
          <p:nvPr/>
        </p:nvGrpSpPr>
        <p:grpSpPr>
          <a:xfrm>
            <a:off x="218160" y="907920"/>
            <a:ext cx="5135400" cy="3233520"/>
            <a:chOff x="218160" y="907920"/>
            <a:chExt cx="5135400" cy="3233520"/>
          </a:xfrm>
        </p:grpSpPr>
        <p:sp>
          <p:nvSpPr>
            <p:cNvPr id="727" name=""/>
            <p:cNvSpPr/>
            <p:nvPr/>
          </p:nvSpPr>
          <p:spPr>
            <a:xfrm>
              <a:off x="218160" y="3285000"/>
              <a:ext cx="513540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Los anuncios de la lotería de Navidad y Freixenet</a:t>
              </a:r>
              <a:endParaRPr b="0" lang="en-US" sz="16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iconos de las navidades españolas así como los </a:t>
              </a:r>
              <a:endParaRPr b="0" lang="en-US" sz="16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anuncios de antes y después de las </a:t>
              </a:r>
              <a:r>
                <a:rPr b="0" lang="es-ES_tradnl" sz="1600" spc="-1" strike="noStrike" u="sng">
                  <a:solidFill>
                    <a:srgbClr val="ffff99"/>
                  </a:solidFill>
                  <a:uFillTx/>
                  <a:latin typeface="Tahoma"/>
                  <a:hlinkClick r:id="rId10"/>
                </a:rPr>
                <a:t>campanadas</a:t>
              </a:r>
              <a:r>
                <a:rPr b="0" lang="es-ES_tradnl" sz="1600" spc="-1" strike="noStrike" u="sng">
                  <a:solidFill>
                    <a:srgbClr val="ffff99"/>
                  </a:solidFill>
                  <a:uFillTx/>
                  <a:latin typeface="Tahoma"/>
                  <a:hlinkClick r:id="rId11"/>
                </a:rPr>
                <a:t>.</a:t>
              </a:r>
              <a:r>
                <a:rPr b="0" lang="es-ES_tradnl" sz="1400" spc="-1" strike="noStrike" u="sng">
                  <a:solidFill>
                    <a:srgbClr val="ffff99"/>
                  </a:solidFill>
                  <a:uFillTx/>
                  <a:latin typeface="Tahoma"/>
                  <a:hlinkClick r:id="rId12"/>
                </a:rPr>
                <a:t> </a:t>
              </a:r>
              <a:endParaRPr b="0" lang="en-US" sz="14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728" name=""/>
            <p:cNvGrpSpPr/>
            <p:nvPr/>
          </p:nvGrpSpPr>
          <p:grpSpPr>
            <a:xfrm>
              <a:off x="260280" y="907920"/>
              <a:ext cx="4262400" cy="2362320"/>
              <a:chOff x="260280" y="907920"/>
              <a:chExt cx="4262400" cy="2362320"/>
            </a:xfrm>
          </p:grpSpPr>
          <p:pic>
            <p:nvPicPr>
              <p:cNvPr id="72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60280" y="907920"/>
                <a:ext cx="1650960" cy="236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0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236680" y="907920"/>
                <a:ext cx="2286000" cy="138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1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236680" y="1912680"/>
                <a:ext cx="2286000" cy="1357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32" name=""/>
          <p:cNvSpPr/>
          <p:nvPr/>
        </p:nvSpPr>
        <p:spPr>
          <a:xfrm>
            <a:off x="5148360" y="4076640"/>
            <a:ext cx="24080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cc00"/>
                </a:solidFill>
                <a:latin typeface="Tahoma"/>
              </a:rPr>
              <a:t>www.jorgetutor.com</a:t>
            </a:r>
            <a:endParaRPr b="0" lang="en-US" sz="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5000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" descr=""/>
          <p:cNvPicPr/>
          <p:nvPr/>
        </p:nvPicPr>
        <p:blipFill>
          <a:blip r:embed="rId1"/>
          <a:stretch/>
        </p:blipFill>
        <p:spPr>
          <a:xfrm>
            <a:off x="6804000" y="1413000"/>
            <a:ext cx="1523880" cy="215244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6019920" y="3734640"/>
            <a:ext cx="312408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ffff99"/>
                </a:solidFill>
                <a:uFillTx/>
                <a:latin typeface="Tahoma"/>
                <a:hlinkClick r:id="rId2"/>
              </a:rPr>
              <a:t>Campaña de Amnistía Internacional </a:t>
            </a:r>
            <a:r>
              <a:rPr b="1" lang="es-ES_tradnl" sz="1400" spc="-1" strike="noStrike">
                <a:solidFill>
                  <a:srgbClr val="ffcc00"/>
                </a:solidFill>
                <a:latin typeface="Tahoma"/>
              </a:rPr>
              <a:t>contra la homofobia y represión homosexual con fotos de famosos relacionados con la homosexualidad</a:t>
            </a:r>
            <a:r>
              <a:rPr b="1" lang="es-ES_tradnl" sz="1400" spc="-1" strike="noStrike">
                <a:solidFill>
                  <a:srgbClr val="ff505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1403280" y="114480"/>
            <a:ext cx="6391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505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os famosos invaden la publicidad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ff505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6" name=""/>
          <p:cNvSpPr/>
          <p:nvPr/>
        </p:nvSpPr>
        <p:spPr>
          <a:xfrm>
            <a:off x="5076720" y="5445000"/>
            <a:ext cx="38689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ffff99"/>
                </a:solidFill>
                <a:uFillTx/>
                <a:latin typeface="Tahoma"/>
                <a:hlinkClick r:id="rId3"/>
              </a:rPr>
              <a:t>“Los Serrano” </a:t>
            </a:r>
            <a:r>
              <a:rPr b="1" lang="es-ES_tradnl" sz="1400" spc="-1" strike="noStrike">
                <a:solidFill>
                  <a:srgbClr val="ffcc00"/>
                </a:solidFill>
                <a:latin typeface="Tahoma"/>
              </a:rPr>
              <a:t>es una de las series más vistas en España y en la que se pueden ver hasta 21 productos diferentes por emisión.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24000" y="3500280"/>
            <a:ext cx="2305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cc00"/>
                </a:solidFill>
                <a:latin typeface="Tahoma"/>
              </a:rPr>
              <a:t>Beckham es el rey de la publicidad (Pepsi, Gillete, Vodafone) ingresando 18 mill. € (el 73% de su suelo)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627280" y="3645000"/>
            <a:ext cx="33847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ffff99"/>
                </a:solidFill>
                <a:uFillTx/>
                <a:latin typeface="Tahoma"/>
                <a:hlinkClick r:id="rId4"/>
              </a:rPr>
              <a:t>El Barcelona  </a:t>
            </a:r>
            <a:r>
              <a:rPr b="1" lang="es-ES" sz="1400" spc="-1" strike="noStrike">
                <a:solidFill>
                  <a:srgbClr val="ffcc00"/>
                </a:solidFill>
                <a:latin typeface="Tahoma"/>
              </a:rPr>
              <a:t>y el Athlétic de Bilbao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s-ES" sz="1400" spc="-1" strike="noStrike">
                <a:solidFill>
                  <a:srgbClr val="ffcc00"/>
                </a:solidFill>
                <a:latin typeface="Tahoma"/>
              </a:rPr>
              <a:t>son los únicos equipos que no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cc00"/>
                </a:solidFill>
                <a:latin typeface="Tahoma"/>
              </a:rPr>
              <a:t>llevan patrocinadores en sus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s-ES" sz="1400" spc="-1" strike="noStrike">
                <a:solidFill>
                  <a:srgbClr val="ffcc00"/>
                </a:solidFill>
                <a:latin typeface="Tahoma"/>
              </a:rPr>
              <a:t>camisetas</a:t>
            </a:r>
            <a:r>
              <a:rPr b="0" lang="es-ES" sz="1600" spc="-1" strike="noStrike">
                <a:solidFill>
                  <a:srgbClr val="ff505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5"/>
          <a:stretch/>
        </p:blipFill>
        <p:spPr>
          <a:xfrm>
            <a:off x="684360" y="1484280"/>
            <a:ext cx="1341360" cy="201312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6"/>
          <a:stretch/>
        </p:blipFill>
        <p:spPr>
          <a:xfrm>
            <a:off x="2987640" y="1700280"/>
            <a:ext cx="2468520" cy="170964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250920" y="692280"/>
            <a:ext cx="88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66cc"/>
                </a:solidFill>
                <a:latin typeface="Arial"/>
              </a:rPr>
              <a:t>LA </a:t>
            </a:r>
            <a:r>
              <a:rPr b="0" lang="es-ES" sz="1600" spc="-1" strike="noStrike" u="sng">
                <a:solidFill>
                  <a:srgbClr val="ffff99"/>
                </a:solidFill>
                <a:uFillTx/>
                <a:latin typeface="Arial"/>
                <a:hlinkClick r:id="rId7"/>
              </a:rPr>
              <a:t>PRESENCIA DE FAMOSOS </a:t>
            </a:r>
            <a:r>
              <a:rPr b="1" lang="es-ES" sz="1600" spc="-1" strike="noStrike">
                <a:solidFill>
                  <a:srgbClr val="ff66cc"/>
                </a:solidFill>
                <a:latin typeface="Arial"/>
              </a:rPr>
              <a:t>EN PUBLICIDAD HA AUMENADO UN 400%  EN LOS ULTIMOS 10 AÑOS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84680" y="4930920"/>
            <a:ext cx="44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EFECTIVIDAD MEDIA DE ANUNCIOS CON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AMOSOS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0" y="5157720"/>
          <a:ext cx="4200480" cy="1700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5157720"/>
                    <a:ext cx="420048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5" name=""/>
          <p:cNvSpPr/>
          <p:nvPr/>
        </p:nvSpPr>
        <p:spPr>
          <a:xfrm>
            <a:off x="1335600" y="6453360"/>
            <a:ext cx="153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Fuente: Next TV Europe 2005</a:t>
            </a:r>
            <a:endParaRPr b="0" lang="en-US" sz="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8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8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80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8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8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8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324000" y="2491920"/>
            <a:ext cx="40384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126720" indent="-126720">
              <a:lnSpc>
                <a:spcPct val="100000"/>
              </a:lnSpc>
              <a:spcBef>
                <a:spcPts val="400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89ec"/>
                </a:solidFill>
                <a:latin typeface="Tahoma"/>
              </a:rPr>
              <a:t>Los </a:t>
            </a:r>
            <a:r>
              <a:rPr b="0" lang="es-ES" sz="1600" spc="-1" strike="noStrike" u="sng">
                <a:solidFill>
                  <a:srgbClr val="ffff99"/>
                </a:solidFill>
                <a:uFillTx/>
                <a:latin typeface="Tahoma"/>
                <a:hlinkClick r:id="rId1"/>
              </a:rPr>
              <a:t>anuncios de la DGT</a:t>
            </a:r>
            <a:r>
              <a:rPr b="0" lang="es-ES" sz="1600" spc="-1" strike="noStrike" u="sng">
                <a:solidFill>
                  <a:srgbClr val="ffff99"/>
                </a:solidFill>
                <a:uFillTx/>
                <a:latin typeface="Tahoma"/>
                <a:hlinkClick r:id="rId2"/>
              </a:rPr>
              <a:t> </a:t>
            </a:r>
            <a:r>
              <a:rPr b="1" lang="es-ES" sz="1600" spc="-1" strike="noStrike">
                <a:solidFill>
                  <a:srgbClr val="ff89ec"/>
                </a:solidFill>
                <a:latin typeface="Tahoma"/>
              </a:rPr>
              <a:t>siempre controvetidos por su durez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26720" indent="-126720">
              <a:lnSpc>
                <a:spcPct val="100000"/>
              </a:lnSpc>
              <a:spcBef>
                <a:spcPts val="400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89ec"/>
                </a:solidFill>
                <a:latin typeface="Tahoma"/>
              </a:rPr>
              <a:t>Anuncio de </a:t>
            </a:r>
            <a:r>
              <a:rPr b="0" lang="es-ES" sz="1600" spc="-1" strike="noStrike" u="sng">
                <a:solidFill>
                  <a:srgbClr val="ffff99"/>
                </a:solidFill>
                <a:uFillTx/>
                <a:latin typeface="Tahoma"/>
                <a:hlinkClick r:id="rId3"/>
              </a:rPr>
              <a:t>Aguila</a:t>
            </a:r>
            <a:r>
              <a:rPr b="0" lang="es-ES" sz="1600" spc="-1" strike="noStrike" u="sng">
                <a:solidFill>
                  <a:srgbClr val="ffff99"/>
                </a:solidFill>
                <a:uFillTx/>
                <a:latin typeface="Tahoma"/>
                <a:hlinkClick r:id="rId4"/>
              </a:rPr>
              <a:t> </a:t>
            </a:r>
            <a:r>
              <a:rPr b="0" lang="es-ES" sz="1600" spc="-1" strike="noStrike" u="sng">
                <a:solidFill>
                  <a:srgbClr val="ffff99"/>
                </a:solidFill>
                <a:uFillTx/>
                <a:latin typeface="Tahoma"/>
                <a:hlinkClick r:id="rId5"/>
              </a:rPr>
              <a:t>Amstel</a:t>
            </a:r>
            <a:r>
              <a:rPr b="0" lang="es-ES" sz="1600" spc="-1" strike="noStrike" u="sng">
                <a:solidFill>
                  <a:srgbClr val="ffff99"/>
                </a:solidFill>
                <a:uFillTx/>
                <a:latin typeface="Tahoma"/>
                <a:hlinkClick r:id="rId6"/>
              </a:rPr>
              <a:t> </a:t>
            </a:r>
            <a:r>
              <a:rPr b="1" lang="es-ES" sz="1600" spc="-1" strike="noStrike">
                <a:solidFill>
                  <a:srgbClr val="ff89ec"/>
                </a:solidFill>
                <a:latin typeface="Tahoma"/>
              </a:rPr>
              <a:t>y los transexual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26720" indent="-126720">
              <a:lnSpc>
                <a:spcPct val="100000"/>
              </a:lnSpc>
              <a:spcBef>
                <a:spcPts val="400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89ec"/>
                </a:solidFill>
                <a:latin typeface="Tahoma"/>
              </a:rPr>
              <a:t>El efecto </a:t>
            </a:r>
            <a:r>
              <a:rPr b="0" lang="es-ES" sz="1600" spc="-1" strike="noStrike" u="sng">
                <a:solidFill>
                  <a:srgbClr val="ffff99"/>
                </a:solidFill>
                <a:uFillTx/>
                <a:latin typeface="Tahoma"/>
                <a:hlinkClick r:id="rId7"/>
              </a:rPr>
              <a:t>Axe</a:t>
            </a:r>
            <a:r>
              <a:rPr b="0" lang="es-ES" sz="1600" spc="-1" strike="noStrike" u="sng">
                <a:solidFill>
                  <a:srgbClr val="ffff99"/>
                </a:solidFill>
                <a:uFillTx/>
                <a:latin typeface="Tahoma"/>
                <a:hlinkClick r:id="rId8"/>
              </a:rPr>
              <a:t> </a:t>
            </a:r>
            <a:r>
              <a:rPr b="1" lang="es-ES" sz="1600" spc="-1" strike="noStrike">
                <a:solidFill>
                  <a:srgbClr val="ff89ec"/>
                </a:solidFill>
                <a:latin typeface="Tahoma"/>
              </a:rPr>
              <a:t>y sus anuncios políticamente incorrecto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26720" indent="-126720">
              <a:lnSpc>
                <a:spcPct val="100000"/>
              </a:lnSpc>
              <a:spcBef>
                <a:spcPts val="400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89ec"/>
                </a:solidFill>
                <a:latin typeface="Tahoma"/>
              </a:rPr>
              <a:t>La </a:t>
            </a:r>
            <a:r>
              <a:rPr b="0" lang="es-ES" sz="1600" spc="-1" strike="noStrike" u="sng">
                <a:solidFill>
                  <a:srgbClr val="ffff99"/>
                </a:solidFill>
                <a:uFillTx/>
                <a:latin typeface="Tahoma"/>
                <a:hlinkClick r:id="rId9"/>
              </a:rPr>
              <a:t>campaña turística oficial de España</a:t>
            </a:r>
            <a:r>
              <a:rPr b="1" lang="es-ES" sz="1600" spc="-1" strike="noStrike">
                <a:solidFill>
                  <a:srgbClr val="ff89ec"/>
                </a:solidFill>
                <a:latin typeface="Tahoma"/>
              </a:rPr>
              <a:t>, tachada de machist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26720" indent="-126720">
              <a:lnSpc>
                <a:spcPct val="100000"/>
              </a:lnSpc>
              <a:spcBef>
                <a:spcPts val="400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ffff99"/>
                </a:solidFill>
                <a:uFillTx/>
                <a:latin typeface="Tahoma"/>
                <a:hlinkClick r:id="rId10"/>
              </a:rPr>
              <a:t>Coca-cola</a:t>
            </a:r>
            <a:r>
              <a:rPr b="1" lang="es-ES" sz="1600" spc="-1" strike="noStrike">
                <a:solidFill>
                  <a:srgbClr val="ff89ec"/>
                </a:solidFill>
                <a:latin typeface="Tahoma"/>
              </a:rPr>
              <a:t> contra Aragón y Valenci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26720" indent="-126720">
              <a:lnSpc>
                <a:spcPct val="100000"/>
              </a:lnSpc>
              <a:spcBef>
                <a:spcPts val="400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89ec"/>
                </a:solidFill>
                <a:latin typeface="Tahoma"/>
              </a:rPr>
              <a:t>Los </a:t>
            </a:r>
            <a:r>
              <a:rPr b="0" lang="es-ES" sz="1600" spc="-1" strike="noStrike" u="sng">
                <a:solidFill>
                  <a:srgbClr val="ffff99"/>
                </a:solidFill>
                <a:uFillTx/>
                <a:latin typeface="Tahoma"/>
                <a:hlinkClick r:id="rId11"/>
              </a:rPr>
              <a:t>bebes de Calvé </a:t>
            </a:r>
            <a:r>
              <a:rPr b="1" lang="es-ES" sz="1600" spc="-1" strike="noStrike">
                <a:solidFill>
                  <a:srgbClr val="ff89ec"/>
                </a:solidFill>
                <a:latin typeface="Tahoma"/>
              </a:rPr>
              <a:t>y la interepretación de maltrato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26720" indent="-126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26720" indent="-126720">
              <a:lnSpc>
                <a:spcPct val="100000"/>
              </a:lnSpc>
              <a:spcBef>
                <a:spcPts val="400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26720" indent="-126720">
              <a:lnSpc>
                <a:spcPct val="100000"/>
              </a:lnSpc>
              <a:spcBef>
                <a:spcPts val="400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26720" indent="-126720">
              <a:lnSpc>
                <a:spcPct val="100000"/>
              </a:lnSpc>
              <a:spcBef>
                <a:spcPts val="400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26720" indent="-126720" algn="ctr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1692360" y="228600"/>
            <a:ext cx="5759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Anuncios controvertid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</p:txBody>
      </p:sp>
      <p:sp>
        <p:nvSpPr>
          <p:cNvPr id="749" name=""/>
          <p:cNvSpPr/>
          <p:nvPr/>
        </p:nvSpPr>
        <p:spPr>
          <a:xfrm>
            <a:off x="1276560" y="1145520"/>
            <a:ext cx="671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cc"/>
                </a:solidFill>
                <a:latin typeface="Verdana"/>
              </a:rPr>
              <a:t>300 SPOTS PROVOCARON RECLAMACIONES Y DENUNCIAS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cc"/>
                </a:solidFill>
                <a:latin typeface="Verdana"/>
              </a:rPr>
              <a:t>SÓLO EN EL AÑO 2.002</a:t>
            </a:r>
            <a:r>
              <a:rPr b="1" lang="es-ES_tradnl" sz="1600" spc="-1" strike="noStrike">
                <a:solidFill>
                  <a:srgbClr val="ff66cc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800600" y="5157720"/>
            <a:ext cx="40384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89ec"/>
                </a:solidFill>
                <a:latin typeface="Tahoma"/>
              </a:rPr>
              <a:t>      </a:t>
            </a:r>
            <a:r>
              <a:rPr b="1" lang="es-ES" sz="1600" spc="-1" strike="noStrike">
                <a:solidFill>
                  <a:srgbClr val="ff89ec"/>
                </a:solidFill>
                <a:latin typeface="Tahoma"/>
              </a:rPr>
              <a:t>El anuncio de </a:t>
            </a:r>
            <a:r>
              <a:rPr b="0" lang="es-ES" sz="1600" spc="-1" strike="noStrike" u="sng">
                <a:solidFill>
                  <a:srgbClr val="ffff99"/>
                </a:solidFill>
                <a:uFillTx/>
                <a:latin typeface="Tahoma"/>
                <a:hlinkClick r:id="rId13"/>
              </a:rPr>
              <a:t>Bocatta</a:t>
            </a:r>
            <a:r>
              <a:rPr b="0" lang="es-ES" sz="1600" spc="-1" strike="noStrike" u="sng">
                <a:solidFill>
                  <a:srgbClr val="ffff99"/>
                </a:solidFill>
                <a:uFillTx/>
                <a:latin typeface="Tahoma"/>
                <a:hlinkClick r:id="rId14"/>
              </a:rPr>
              <a:t> </a:t>
            </a:r>
            <a:r>
              <a:rPr b="1" lang="es-ES" sz="1600" spc="-1" strike="noStrike">
                <a:solidFill>
                  <a:srgbClr val="ff89ec"/>
                </a:solidFill>
                <a:latin typeface="Tahoma"/>
              </a:rPr>
              <a:t>fue prohibido porque desprestigia al mundo rural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5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16"/>
          <a:stretch/>
        </p:blipFill>
        <p:spPr>
          <a:xfrm>
            <a:off x="5105520" y="2133720"/>
            <a:ext cx="3733560" cy="28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8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8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8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8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800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800" fill="hold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800" fill="hold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800" fill="hold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800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800" fill="hold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800" fill="hold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800" fill="hold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7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800"/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800" fill="hold"/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800" fill="hold"/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800" fill="hold"/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4000"/>
                            </p:stCondLst>
                            <p:childTnLst>
                              <p:par>
                                <p:cTn id="7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800"/>
                                        <p:tgtEl>
                                          <p:spTgt spid="7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800" fill="hold"/>
                                        <p:tgtEl>
                                          <p:spTgt spid="7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800" fill="hold"/>
                                        <p:tgtEl>
                                          <p:spTgt spid="7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800" fill="hold"/>
                                        <p:tgtEl>
                                          <p:spTgt spid="7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0"/>
                            </p:stCondLst>
                            <p:childTnLst>
                              <p:par>
                                <p:cTn id="7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8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8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7" restart="whenNotActive" nodeType="interactiveSeq" fill="hold">
                <p:stCondLst>
                  <p:cond evt="onClick">
                    <p:tgtEl>
                      <p:spTgt spid="752"/>
                    </p:tgtEl>
                  </p:cond>
                </p:stCondLst>
                <p:childTnLst>
                  <p:par>
                    <p:cTn id="768" fill="hold">
                      <p:stCondLst>
                        <p:cond evt="onClick">
                          <p:tgtEl>
                            <p:spTgt spid="752"/>
                          </p:tgtEl>
                        </p:cond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1" dur="1" fill="hold"/>
                                        <p:tgtEl>
                                          <p:spTgt spid="7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 txBox="1"/>
          <p:nvPr/>
        </p:nvSpPr>
        <p:spPr>
          <a:xfrm>
            <a:off x="324000" y="549360"/>
            <a:ext cx="8135640" cy="86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nuncios que todo el mundo recuerd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6732720" y="3276720"/>
            <a:ext cx="1720800" cy="225252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6372360" y="5734080"/>
            <a:ext cx="25923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ahoma"/>
              </a:rPr>
              <a:t>La canción de  “Cola Cao” un hecho insólito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ahoma"/>
              </a:rPr>
              <a:t>en la comunicación publicitaria española</a:t>
            </a:r>
            <a:r>
              <a:rPr b="1" lang="es-ES_tradnl" sz="16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24000" y="12618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El estilo más usado hasta los ochenta era la publicidad con 'eslogan' y a ser posible que rimara. Actualmente la fuerza está en las imágenes y unos cierrres con trascendencia y sencillez. Sin embargo, algunas frasecitas han quedado archivadas para siempre en la memoria colectiva.</a:t>
            </a:r>
            <a:r>
              <a:rPr b="0" lang="en-GB" sz="1800" spc="-1" strike="noStrike">
                <a:solidFill>
                  <a:srgbClr val="ff0066"/>
                </a:solidFill>
                <a:latin typeface="Alba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11280" y="2961360"/>
            <a:ext cx="5545080" cy="33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Busque, compare y se encuentra algo mejor, cómprelo” </a:t>
            </a: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lang="en-GB" sz="1200" spc="-1" strike="noStrike">
                <a:solidFill>
                  <a:srgbClr val="ffff66"/>
                </a:solidFill>
                <a:latin typeface="Arial"/>
              </a:rPr>
              <a:t>Detergente, Camp)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Para las manchas de picota, una solución quiero” </a:t>
            </a:r>
            <a:r>
              <a:rPr b="1" lang="en-GB" sz="1200" spc="-1" strike="noStrike">
                <a:solidFill>
                  <a:srgbClr val="ffff66"/>
                </a:solidFill>
                <a:latin typeface="Arial"/>
              </a:rPr>
              <a:t>(Detergente, Ariel)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Póntelo, pónselo” </a:t>
            </a:r>
            <a:r>
              <a:rPr b="1" lang="en-GB" sz="1200" spc="-1" strike="noStrike">
                <a:solidFill>
                  <a:srgbClr val="ffff66"/>
                </a:solidFill>
                <a:latin typeface="Arial"/>
              </a:rPr>
              <a:t>(Prevención SIDA, Campaña del Ministerio de Asuntos Sociales)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Del Caserío me fío” </a:t>
            </a: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lang="en-GB" sz="1200" spc="-1" strike="noStrike">
                <a:solidFill>
                  <a:srgbClr val="ffff66"/>
                </a:solidFill>
                <a:latin typeface="Arial"/>
              </a:rPr>
              <a:t>Quesitos, El Caserio)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A mi plin, yo duermo en Pikolín” </a:t>
            </a:r>
            <a:r>
              <a:rPr b="1" lang="en-GB" sz="1200" spc="-1" strike="noStrike">
                <a:solidFill>
                  <a:srgbClr val="ffff66"/>
                </a:solidFill>
                <a:latin typeface="Arial"/>
              </a:rPr>
              <a:t>(Colchones Pikolin)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El secreto está en la masa” </a:t>
            </a:r>
            <a:r>
              <a:rPr b="1" lang="en-GB" sz="1200" spc="-1" strike="noStrike">
                <a:solidFill>
                  <a:srgbClr val="ffff66"/>
                </a:solidFill>
                <a:latin typeface="Arial"/>
              </a:rPr>
              <a:t>(Pizza, Telepizza)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¿Dónde está Curro?” </a:t>
            </a:r>
            <a:r>
              <a:rPr b="1" lang="en-GB" sz="1200" spc="-1" strike="noStrike">
                <a:solidFill>
                  <a:srgbClr val="ffff66"/>
                </a:solidFill>
                <a:latin typeface="Arial"/>
              </a:rPr>
              <a:t>(Agencia de Viajes, Halcón Viajes)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Hola, soy Edu, Feliz Navidad” </a:t>
            </a:r>
            <a:r>
              <a:rPr b="1" lang="en-GB" sz="1200" spc="-1" strike="noStrike">
                <a:solidFill>
                  <a:srgbClr val="ffff66"/>
                </a:solidFill>
                <a:latin typeface="Arial"/>
              </a:rPr>
              <a:t>(telefonía móvil, Airtel)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Él nunca lo haría” </a:t>
            </a:r>
            <a:r>
              <a:rPr b="1" lang="en-GB" sz="1200" spc="-1" strike="noStrike">
                <a:solidFill>
                  <a:srgbClr val="ffff66"/>
                </a:solidFill>
                <a:latin typeface="Arial"/>
              </a:rPr>
              <a:t>(Protectora de animales, Fundación Affinity)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Tu pasas el Pronto y yo el paño” </a:t>
            </a:r>
            <a:r>
              <a:rPr b="1" lang="en-GB" sz="1200" spc="-1" strike="noStrike">
                <a:solidFill>
                  <a:srgbClr val="ffff66"/>
                </a:solidFill>
                <a:latin typeface="Arial"/>
              </a:rPr>
              <a:t>(Limpiador, Pronto)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2"/>
          <a:stretch/>
        </p:blipFill>
        <p:spPr>
          <a:xfrm>
            <a:off x="8610480" y="4267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8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8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8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8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800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800" fill="hold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800" fill="hold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800" fill="hold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000"/>
                            </p:stCondLst>
                            <p:childTnLst>
                              <p:par>
                                <p:cTn id="8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800"/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800" fill="hold"/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800" fill="hold"/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800"/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800" fill="hold"/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4000"/>
                            </p:stCondLst>
                            <p:childTnLst>
                              <p:par>
                                <p:cTn id="8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800"/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800" fill="hold"/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800" fill="hold"/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800" fill="hold"/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000"/>
                            </p:stCondLst>
                            <p:childTnLst>
                              <p:par>
                                <p:cTn id="8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800"/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800" fill="hold"/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800" fill="hold"/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800" fill="hold"/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800"/>
                                        <p:tgtEl>
                                          <p:spTgt spid="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800" fill="hold"/>
                                        <p:tgtEl>
                                          <p:spTgt spid="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800" fill="hold"/>
                                        <p:tgtEl>
                                          <p:spTgt spid="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800" fill="hold"/>
                                        <p:tgtEl>
                                          <p:spTgt spid="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7000"/>
                            </p:stCondLst>
                            <p:childTnLst>
                              <p:par>
                                <p:cTn id="8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800"/>
                                        <p:tgtEl>
                                          <p:spTgt spid="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800" fill="hold"/>
                                        <p:tgtEl>
                                          <p:spTgt spid="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800" fill="hold"/>
                                        <p:tgtEl>
                                          <p:spTgt spid="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8000"/>
                            </p:stCondLst>
                            <p:childTnLst>
                              <p:par>
                                <p:cTn id="8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800"/>
                                        <p:tgtEl>
                                          <p:spTgt spid="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800" fill="hold"/>
                                        <p:tgtEl>
                                          <p:spTgt spid="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800" fill="hold"/>
                                        <p:tgtEl>
                                          <p:spTgt spid="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800" fill="hold"/>
                                        <p:tgtEl>
                                          <p:spTgt spid="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9000"/>
                            </p:stCondLst>
                            <p:childTnLst>
                              <p:par>
                                <p:cTn id="8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800"/>
                                        <p:tgtEl>
                                          <p:spTgt spid="7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7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800" fill="hold"/>
                                        <p:tgtEl>
                                          <p:spTgt spid="7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7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758"/>
                    </p:tgtEl>
                  </p:cond>
                </p:stCondLst>
                <p:childTnLst>
                  <p:par>
                    <p:cTn id="899" fill="hold">
                      <p:stCondLst>
                        <p:cond evt="onClick">
                          <p:tgtEl>
                            <p:spTgt spid="758"/>
                          </p:tgtEl>
                        </p:cond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2" dur="63715" fill="hold"/>
                                        <p:tgtEl>
                                          <p:spTgt spid="7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170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En Españ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Principales emisoras de radi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5579640" y="1484280"/>
            <a:ext cx="5335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Datos sobre la radi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Programas má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escuchad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2987640" y="1916280"/>
            <a:ext cx="2754360" cy="360504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 txBox="1"/>
          <p:nvPr/>
        </p:nvSpPr>
        <p:spPr>
          <a:xfrm>
            <a:off x="2771640" y="549360"/>
            <a:ext cx="396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Impact"/>
              </a:rPr>
              <a:t>La Radi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Impact"/>
              <a:ea typeface="Impact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2"/>
          <a:stretch/>
        </p:blipFill>
        <p:spPr>
          <a:xfrm>
            <a:off x="419112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2" dur="500"/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7" dur="500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2" dur="500"/>
                                        <p:tgtEl>
                                          <p:spTgt spid="7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5" dur="500"/>
                                        <p:tgtEl>
                                          <p:spTgt spid="7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8" dur="6598" fill="hold"/>
                                        <p:tgtEl>
                                          <p:spTgt spid="7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99"/>
                </a:solidFill>
                <a:latin typeface="Trebuchet MS"/>
              </a:rPr>
              <a:t>Debido al soporte que tiene como medio informativo, es un medio muy válido para la publicidad, siendo una gran herramienta para llegar a un amplio público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99"/>
                </a:solidFill>
                <a:latin typeface="Trebuchet MS"/>
              </a:rPr>
              <a:t>Más de 18 millones de personas escuchan la radio en España, haciendo que se produzca una gran inversión publicitaria llegando en el 2000 a los 150 millones de euros, un 7,7% más que en el 1999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99"/>
                </a:solidFill>
                <a:latin typeface="Trebuchet MS"/>
              </a:rPr>
              <a:t>La cadena SER fue la primera oferta de radio, situándose a gran distancia de sus competidoras por su audiencia, resultados y calida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99"/>
                </a:solidFill>
                <a:latin typeface="Trebuchet MS"/>
              </a:rPr>
              <a:t>La radio influye en la política, en el consumo, en la educación, fomenta conductas, influye en casi todos los rincones de una sociedad.</a:t>
            </a: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5"/>
          <a:stretch/>
        </p:blipFill>
        <p:spPr>
          <a:xfrm>
            <a:off x="3780000" y="4869000"/>
            <a:ext cx="1523880" cy="126972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 txBox="1"/>
          <p:nvPr/>
        </p:nvSpPr>
        <p:spPr>
          <a:xfrm>
            <a:off x="1692360" y="620640"/>
            <a:ext cx="5975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 Radio en Españ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6"/>
          <a:stretch/>
        </p:blipFill>
        <p:spPr>
          <a:xfrm>
            <a:off x="2268360" y="5300640"/>
            <a:ext cx="1524240" cy="127008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7"/>
          <a:stretch/>
        </p:blipFill>
        <p:spPr>
          <a:xfrm>
            <a:off x="5292720" y="5300640"/>
            <a:ext cx="1512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20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20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20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20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20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20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20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20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7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2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7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2"/>
          <a:stretch/>
        </p:blipFill>
        <p:spPr>
          <a:xfrm>
            <a:off x="1908000" y="1557360"/>
            <a:ext cx="5688360" cy="489600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3"/>
          <a:stretch/>
        </p:blipFill>
        <p:spPr>
          <a:xfrm>
            <a:off x="3419640" y="4800600"/>
            <a:ext cx="936360" cy="72216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4"/>
          <a:stretch/>
        </p:blipFill>
        <p:spPr>
          <a:xfrm>
            <a:off x="324000" y="3357720"/>
            <a:ext cx="936360" cy="47124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042920" y="333360"/>
            <a:ext cx="74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9933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rincipales Emisoras de Radio</a:t>
            </a:r>
            <a:endParaRPr b="0" lang="en-US" sz="2800" spc="1" strike="noStrike">
              <a:ln w="0">
                <a:noFill/>
              </a:ln>
              <a:solidFill>
                <a:srgbClr val="ff9933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5"/>
          <a:stretch/>
        </p:blipFill>
        <p:spPr>
          <a:xfrm>
            <a:off x="468360" y="4944960"/>
            <a:ext cx="753840" cy="793800"/>
          </a:xfrm>
          <a:prstGeom prst="rect">
            <a:avLst/>
          </a:prstGeom>
          <a:ln w="0">
            <a:noFill/>
          </a:ln>
        </p:spPr>
      </p:pic>
      <p:pic>
        <p:nvPicPr>
          <p:cNvPr id="778" name="" descr=""/>
          <p:cNvPicPr/>
          <p:nvPr/>
        </p:nvPicPr>
        <p:blipFill>
          <a:blip r:embed="rId6"/>
          <a:stretch/>
        </p:blipFill>
        <p:spPr>
          <a:xfrm>
            <a:off x="5219640" y="2492280"/>
            <a:ext cx="598680" cy="59868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7"/>
          <a:stretch/>
        </p:blipFill>
        <p:spPr>
          <a:xfrm>
            <a:off x="6227640" y="2349360"/>
            <a:ext cx="936720" cy="64800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8"/>
          <a:stretch/>
        </p:blipFill>
        <p:spPr>
          <a:xfrm>
            <a:off x="7740720" y="1773360"/>
            <a:ext cx="1187280" cy="47304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9"/>
          <a:stretch/>
        </p:blipFill>
        <p:spPr>
          <a:xfrm>
            <a:off x="7812000" y="2421000"/>
            <a:ext cx="1081080" cy="68904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10"/>
          <a:stretch/>
        </p:blipFill>
        <p:spPr>
          <a:xfrm>
            <a:off x="468360" y="4076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11"/>
          <a:stretch/>
        </p:blipFill>
        <p:spPr>
          <a:xfrm>
            <a:off x="3995640" y="1700280"/>
            <a:ext cx="1081080" cy="47448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12"/>
          <a:stretch/>
        </p:blipFill>
        <p:spPr>
          <a:xfrm>
            <a:off x="7812000" y="5229360"/>
            <a:ext cx="1008000" cy="57600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13"/>
          <a:stretch/>
        </p:blipFill>
        <p:spPr>
          <a:xfrm>
            <a:off x="7812000" y="4149720"/>
            <a:ext cx="936720" cy="71928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14"/>
          <a:stretch/>
        </p:blipFill>
        <p:spPr>
          <a:xfrm>
            <a:off x="7812000" y="3213000"/>
            <a:ext cx="1008000" cy="64764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15"/>
          <a:stretch/>
        </p:blipFill>
        <p:spPr>
          <a:xfrm>
            <a:off x="250920" y="2565360"/>
            <a:ext cx="1117440" cy="53676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16"/>
          <a:stretch/>
        </p:blipFill>
        <p:spPr>
          <a:xfrm>
            <a:off x="324000" y="1844640"/>
            <a:ext cx="985680" cy="49068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17"/>
          <a:stretch/>
        </p:blipFill>
        <p:spPr>
          <a:xfrm>
            <a:off x="7885080" y="6021360"/>
            <a:ext cx="1008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9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1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6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3300"/>
                </a:solidFill>
                <a:latin typeface="Trebuchet MS"/>
              </a:rPr>
              <a:t>Datos sobre la Radi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La 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a7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Pionera de la radio en España, actividad en la que lleva 78 añ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a7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Tiene más de 4.431.000 de oyentes, situándose en el primer lugar de audienc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a7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Gracias al programa Ser Digital miles de personas nos escuchan más allá de nuestras fronter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a7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Uno de los medios más seguidos por la sociedad española gracias a su variada programación (buenos servicios informativos y deporte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Los 40 principa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da7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Es la radio fórmula líder entre las emisoras musicales de España (detrás de la SER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da7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‘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¡Anda ya!’ Es el cuarto programa más escuchado de todas las programaciones de la radi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4"/>
          <a:stretch/>
        </p:blipFill>
        <p:spPr>
          <a:xfrm>
            <a:off x="1763640" y="5229360"/>
            <a:ext cx="1584360" cy="100800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5"/>
          <a:stretch/>
        </p:blipFill>
        <p:spPr>
          <a:xfrm>
            <a:off x="5651640" y="5084640"/>
            <a:ext cx="1871640" cy="122400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5724360" y="6021360"/>
            <a:ext cx="2808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99"/>
                </a:solidFill>
                <a:uFillTx/>
                <a:latin typeface="Trebuchet MS"/>
                <a:hlinkClick r:id="rId6"/>
              </a:rPr>
              <a:t>www.los40</a:t>
            </a:r>
            <a:r>
              <a:rPr b="0" lang="es-ES" sz="1800" spc="-1" strike="noStrike" u="sng">
                <a:solidFill>
                  <a:srgbClr val="ffff99"/>
                </a:solidFill>
                <a:uFillTx/>
                <a:latin typeface="Trebuchet MS"/>
                <a:hlinkClick r:id="rId7"/>
              </a:rPr>
              <a:t>.</a:t>
            </a:r>
            <a:r>
              <a:rPr b="0" lang="es-ES" sz="1800" spc="-1" strike="noStrike" u="sng">
                <a:solidFill>
                  <a:srgbClr val="ffff99"/>
                </a:solidFill>
                <a:uFillTx/>
                <a:latin typeface="Trebuchet MS"/>
                <a:hlinkClick r:id="rId8"/>
              </a:rPr>
              <a:t>com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 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403280" y="6308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99"/>
                </a:solidFill>
                <a:uFillTx/>
                <a:latin typeface="Trebuchet MS"/>
              </a:rPr>
              <a:t>www.cadenaser.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9"/>
          <a:stretch/>
        </p:blipFill>
        <p:spPr>
          <a:xfrm>
            <a:off x="5638680" y="4038480"/>
            <a:ext cx="19051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1.86284E-006 L 0 -0.08411 E">
                                      <p:cBhvr>
                                        <p:cTn id="10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9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9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9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9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1" dur="8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3" dur="8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0" dur="8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5" dur="8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6" dur="8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7" dur="8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2" dur="8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3" dur="8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4" dur="8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9" dur="80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0" dur="80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1" dur="80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6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1" dur="500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6" dur="8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7" dur="8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8" dur="8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3" dur="80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4" dur="80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5" dur="80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0" dur="80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1" dur="80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2" dur="80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7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2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158760"/>
            <a:ext cx="78598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b53a0"/>
                </a:solidFill>
                <a:latin typeface="Trebuchet MS"/>
              </a:rPr>
              <a:t>Programas más escuchad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La radio ha marcado sonidos de una époc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5364000" y="1341360"/>
            <a:ext cx="1905120" cy="167652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5148360" y="3141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ff"/>
                </a:solidFill>
                <a:uFillTx/>
                <a:latin typeface="Garamond"/>
              </a:rPr>
              <a:t>‘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Garamond"/>
              </a:rPr>
              <a:t>Golpe de Estado 23-F’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68360" y="2565360"/>
            <a:ext cx="4390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http://tallermanual.tripod.com/radio/descripcion/v14.htm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buClr>
                <a:srgbClr val="ffff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Los programas más escuchados: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b53a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Onda Cer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- ‘</a:t>
            </a:r>
            <a:r>
              <a:rPr b="0" i="1" lang="es-ES" sz="1800" spc="-1" strike="noStrike">
                <a:solidFill>
                  <a:srgbClr val="ffffff"/>
                </a:solidFill>
                <a:latin typeface="Trebuchet MS"/>
              </a:rPr>
              <a:t>Gomaespuma’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b53a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Punto Radi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- </a:t>
            </a:r>
            <a:r>
              <a:rPr b="0" i="1" lang="es-ES" sz="1800" spc="-1" strike="noStrike">
                <a:solidFill>
                  <a:srgbClr val="ffffff"/>
                </a:solidFill>
                <a:latin typeface="Trebuchet MS"/>
              </a:rPr>
              <a:t>‘Protagonistas’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 de Luis del Olm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b53a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Ser                      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-</a:t>
            </a:r>
            <a:r>
              <a:rPr b="0" i="1" lang="es-ES" sz="1800" spc="-1" strike="noStrike">
                <a:solidFill>
                  <a:srgbClr val="ffffff"/>
                </a:solidFill>
                <a:latin typeface="Trebuchet MS"/>
              </a:rPr>
              <a:t>La Ventana’ 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de Gemma Nierga                       -</a:t>
            </a:r>
            <a:r>
              <a:rPr b="0" i="1" lang="es-ES" sz="1800" spc="-1" strike="noStrike">
                <a:solidFill>
                  <a:srgbClr val="ffffff"/>
                </a:solidFill>
                <a:latin typeface="Trebuchet MS"/>
              </a:rPr>
              <a:t>‘El larguero’ 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por José Ramón de la                                                                                                                                                                                                           Morena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rebuchet MS"/>
              </a:rPr>
              <a:t>-‘Hora 25’ 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por Carlos Llamas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rebuchet MS"/>
              </a:rPr>
              <a:t>-‘Hablar por Hablar’ 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por Mara Torr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rebuchet MS"/>
              </a:rPr>
              <a:t>-‘Carrusel deportivo’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03" name="" descr=""/>
          <p:cNvPicPr/>
          <p:nvPr/>
        </p:nvPicPr>
        <p:blipFill>
          <a:blip r:embed="rId3"/>
          <a:stretch/>
        </p:blipFill>
        <p:spPr>
          <a:xfrm>
            <a:off x="5219640" y="4656240"/>
            <a:ext cx="2808360" cy="83808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4"/>
          <a:stretch/>
        </p:blipFill>
        <p:spPr>
          <a:xfrm>
            <a:off x="6248520" y="3733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0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5" dur="500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0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5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2000"/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2000" fill="hold"/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2000" fill="hold"/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2000" fill="hold"/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8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8" dur="500"/>
                                        <p:tgtEl>
                                          <p:spTgt spid="8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3" dur="500"/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6" dur="500"/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1" dur="500"/>
                                        <p:tgtEl>
                                          <p:spTgt spid="8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4" dur="500"/>
                                        <p:tgtEl>
                                          <p:spTgt spid="8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7" dur="500"/>
                                        <p:tgtEl>
                                          <p:spTgt spid="8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8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9" restart="whenNotActive" nodeType="interactiveSeq" fill="hold">
                <p:stCondLst>
                  <p:cond evt="onClick">
                    <p:tgtEl>
                      <p:spTgt spid="804"/>
                    </p:tgtEl>
                  </p:cond>
                </p:stCondLst>
                <p:childTnLst>
                  <p:par>
                    <p:cTn id="1270" fill="hold">
                      <p:stCondLst>
                        <p:cond evt="onClick">
                          <p:tgtEl>
                            <p:spTgt spid="804"/>
                          </p:tgtEl>
                        </p:cond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3" dur="72529" fill="hold"/>
                                        <p:tgtEl>
                                          <p:spTgt spid="8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137160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2098800" y="1211040"/>
            <a:ext cx="4946400" cy="4469040"/>
            <a:chOff x="2098800" y="1211040"/>
            <a:chExt cx="4946400" cy="4469040"/>
          </a:xfrm>
        </p:grpSpPr>
        <p:sp>
          <p:nvSpPr>
            <p:cNvPr id="650" name="_s338949"/>
            <p:cNvSpPr/>
            <p:nvPr/>
          </p:nvSpPr>
          <p:spPr>
            <a:xfrm flipH="1">
              <a:off x="3381120" y="4303440"/>
              <a:ext cx="595080" cy="34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1" name="_s338950"/>
            <p:cNvSpPr/>
            <p:nvPr/>
          </p:nvSpPr>
          <p:spPr>
            <a:xfrm>
              <a:off x="2098800" y="4305240"/>
              <a:ext cx="1374480" cy="137484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ensa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sa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2" name="_s338951"/>
            <p:cNvSpPr/>
            <p:nvPr/>
          </p:nvSpPr>
          <p:spPr>
            <a:xfrm>
              <a:off x="5165640" y="4305240"/>
              <a:ext cx="596880" cy="34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3" name="_s338952"/>
            <p:cNvSpPr/>
            <p:nvPr/>
          </p:nvSpPr>
          <p:spPr>
            <a:xfrm>
              <a:off x="5670720" y="4305240"/>
              <a:ext cx="1374480" cy="137484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ensa 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eportiva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4" name="_s338953"/>
            <p:cNvSpPr/>
            <p:nvPr/>
          </p:nvSpPr>
          <p:spPr>
            <a:xfrm flipV="1">
              <a:off x="4572000" y="2585880"/>
              <a:ext cx="0" cy="68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5" name="_s338954"/>
            <p:cNvSpPr/>
            <p:nvPr/>
          </p:nvSpPr>
          <p:spPr>
            <a:xfrm>
              <a:off x="3884760" y="1211040"/>
              <a:ext cx="1374480" cy="137484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iarios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6" name="_s338955"/>
            <p:cNvSpPr/>
            <p:nvPr/>
          </p:nvSpPr>
          <p:spPr>
            <a:xfrm>
              <a:off x="3884760" y="3274920"/>
              <a:ext cx="1374480" cy="137484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NSA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rebuchet MS"/>
              </a:rPr>
              <a:t>   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276360" y="836280"/>
            <a:ext cx="561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os ínternautas españoles utilizan más la red para buscar trabaj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Google es la herramienta princip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as webs de los gobiernos autonómicos reciben más visitas que la Administración cent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 las webs institucionales, sólo dos son de ámbito nacional Agencia Tributaria (www.aeat.es) y el Boletín Oficial del Estado (www.boe.es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4114800" y="304920"/>
            <a:ext cx="35812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572000" y="2286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3600" spc="-1" strike="noStrike">
                <a:solidFill>
                  <a:srgbClr val="ff9900"/>
                </a:solidFill>
                <a:latin typeface="Tahoma"/>
              </a:rPr>
              <a:t>Internet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5" dur="5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1000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1000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-1332000" y="2599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ffffff"/>
                </a:solidFill>
                <a:uFillTx/>
                <a:latin typeface="Trebuchet MS"/>
              </a:rPr>
              <a:t>Empleo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Cada vez se navega más para buscar trabaj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    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2"/>
              </a:rPr>
              <a:t>www.infojobs.ne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    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3"/>
              </a:rPr>
              <a:t>www.infoempleo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    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4"/>
              </a:rPr>
              <a:t>www.monsters.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ffffff"/>
                </a:solidFill>
                <a:uFillTx/>
                <a:latin typeface="Trebuchet MS"/>
              </a:rPr>
              <a:t>Buscadores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5"/>
              </a:rPr>
              <a:t>www.google.es</a:t>
            </a: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es el líder, seguido de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6"/>
              </a:rPr>
              <a:t>www.msn.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7"/>
              </a:rPr>
              <a:t>www.altavista.com</a:t>
            </a: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Portales de correo electrónico gratuit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8"/>
              </a:rPr>
              <a:t>www.terra.es</a:t>
            </a: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,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9"/>
              </a:rPr>
              <a:t>www.wannadoo.es</a:t>
            </a: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,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10"/>
              </a:rPr>
              <a:t>www.ya.com</a:t>
            </a: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,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11"/>
              </a:rPr>
              <a:t>www.tiscali.es</a:t>
            </a: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12"/>
              </a:rPr>
              <a:t>www.hotmail.com</a:t>
            </a: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,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13"/>
              </a:rPr>
              <a:t>www.yahoo.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ffffff"/>
                </a:solidFill>
                <a:uFillTx/>
                <a:latin typeface="Trebuchet MS"/>
              </a:rPr>
              <a:t>Telefonía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Telefónica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14"/>
              </a:rPr>
              <a:t>www.telefonica.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Amena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15"/>
              </a:rPr>
              <a:t>www.amena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ffffff"/>
                </a:solidFill>
                <a:uFillTx/>
                <a:latin typeface="Trebuchet MS"/>
              </a:rPr>
              <a:t>Guías de Anuncio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16"/>
              </a:rPr>
              <a:t>www.segundamano.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w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17"/>
              </a:rPr>
              <a:t>ww.qdq.com</a:t>
            </a: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18"/>
              </a:rPr>
              <a:t>www.paginasamarillas.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ffffff"/>
                </a:solidFill>
                <a:uFillTx/>
                <a:latin typeface="Trebuchet MS"/>
              </a:rPr>
              <a:t>Compras y Bancos on lin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Mucha gente hace la compra  y consulta su cuenta bancaria por internet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19"/>
              </a:rPr>
              <a:t>www.elcorteingles.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20"/>
              </a:rPr>
              <a:t>www.fnac.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21"/>
              </a:rPr>
              <a:t>www.pandasoftware.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22"/>
              </a:rPr>
              <a:t>www.softonic.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23"/>
              </a:rPr>
              <a:t>www.ebay.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1547640" y="620640"/>
            <a:ext cx="367200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897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ffff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Por Sectores</a:t>
            </a:r>
            <a:endParaRPr b="0" lang="en-US" sz="1800" spc="1" strike="noStrike">
              <a:ln w="22320">
                <a:solidFill>
                  <a:srgbClr val="00ffff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24"/>
          <a:stretch/>
        </p:blipFill>
        <p:spPr>
          <a:xfrm>
            <a:off x="395280" y="189000"/>
            <a:ext cx="865080" cy="86364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25"/>
          <a:stretch/>
        </p:blipFill>
        <p:spPr>
          <a:xfrm>
            <a:off x="5796000" y="0"/>
            <a:ext cx="334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1000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4" dur="500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7" dur="500"/>
                                        <p:tgtEl>
                                          <p:spTgt spid="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0" dur="500"/>
                                        <p:tgtEl>
                                          <p:spTgt spid="8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8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8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1000"/>
                                        <p:tgtEl>
                                          <p:spTgt spid="8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2" dur="500"/>
                                        <p:tgtEl>
                                          <p:spTgt spid="8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5" dur="500"/>
                                        <p:tgtEl>
                                          <p:spTgt spid="8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8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8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1000"/>
                                        <p:tgtEl>
                                          <p:spTgt spid="8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7" dur="500"/>
                                        <p:tgtEl>
                                          <p:spTgt spid="8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0" dur="500"/>
                                        <p:tgtEl>
                                          <p:spTgt spid="81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81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81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1000"/>
                                        <p:tgtEl>
                                          <p:spTgt spid="81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2" dur="500"/>
                                        <p:tgtEl>
                                          <p:spTgt spid="81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7" dur="500"/>
                                        <p:tgtEl>
                                          <p:spTgt spid="81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81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81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4" dur="1000"/>
                                        <p:tgtEl>
                                          <p:spTgt spid="81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9" dur="500"/>
                                        <p:tgtEl>
                                          <p:spTgt spid="81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5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2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3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8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218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64d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ás de </a:t>
            </a:r>
            <a:r>
              <a:rPr b="1" lang="es-ES" sz="2000" spc="-1" strike="noStrike">
                <a:solidFill>
                  <a:srgbClr val="ffff99"/>
                </a:solidFill>
                <a:latin typeface="Tahoma"/>
              </a:rPr>
              <a:t>tres millon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de españoles compran por internet lo que supone un 8,4% de la población mayor de 15 añ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64d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os productos más demandados por internet son los </a:t>
            </a:r>
            <a:r>
              <a:rPr b="1" lang="es-ES" sz="2000" spc="-1" strike="noStrike">
                <a:solidFill>
                  <a:srgbClr val="ffff99"/>
                </a:solidFill>
                <a:latin typeface="Tahoma"/>
              </a:rPr>
              <a:t>viajes</a:t>
            </a:r>
            <a:r>
              <a:rPr b="0" lang="es-ES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 un 59,1%, seguido de </a:t>
            </a:r>
            <a:r>
              <a:rPr b="1" lang="es-ES" sz="2000" spc="-1" strike="noStrike">
                <a:solidFill>
                  <a:srgbClr val="ffff99"/>
                </a:solidFill>
                <a:latin typeface="Tahoma"/>
              </a:rPr>
              <a:t>entradas</a:t>
            </a:r>
            <a:r>
              <a:rPr b="0" lang="es-ES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99"/>
                </a:solidFill>
                <a:latin typeface="Tahoma"/>
              </a:rPr>
              <a:t>de espectáculo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con el 35,2%, </a:t>
            </a:r>
            <a:r>
              <a:rPr b="1" lang="es-ES" sz="2000" spc="-1" strike="noStrike">
                <a:solidFill>
                  <a:srgbClr val="ffff99"/>
                </a:solidFill>
                <a:latin typeface="Tahoma"/>
              </a:rPr>
              <a:t>libros y revista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o material de aprendizaje electrónico, con el 24,6%, y </a:t>
            </a:r>
            <a:r>
              <a:rPr b="1" lang="es-ES" sz="2000" spc="-1" strike="noStrike">
                <a:solidFill>
                  <a:srgbClr val="ffff99"/>
                </a:solidFill>
                <a:latin typeface="Tahoma"/>
              </a:rPr>
              <a:t>vídeos y músic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, con el 16,5%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64d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l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99"/>
                </a:solidFill>
                <a:latin typeface="Tahoma"/>
              </a:rPr>
              <a:t>51,9% de los hogares dispone de algún tipo de ordenador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. El 48,6% de la población mayor de 15 años utiliza el ordenador y, de ellos, el 86% lo utiliza frecuentement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64d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l usuario informático español típico es </a:t>
            </a:r>
            <a:r>
              <a:rPr b="1" lang="es-ES" sz="2000" spc="-1" strike="noStrike">
                <a:solidFill>
                  <a:srgbClr val="ffff99"/>
                </a:solidFill>
                <a:latin typeface="Tahoma"/>
              </a:rPr>
              <a:t>varón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(un 53%), </a:t>
            </a:r>
            <a:r>
              <a:rPr b="1" lang="es-ES" sz="2000" spc="-1" strike="noStrike">
                <a:solidFill>
                  <a:srgbClr val="ffff99"/>
                </a:solidFill>
                <a:latin typeface="Tahoma"/>
              </a:rPr>
              <a:t>joven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(el 85% entre 15 y 24 años y el 72% entre 25 y 34 años), </a:t>
            </a:r>
            <a:r>
              <a:rPr b="1" lang="es-ES" sz="2000" spc="-1" strike="noStrike">
                <a:solidFill>
                  <a:srgbClr val="ffff99"/>
                </a:solidFill>
                <a:latin typeface="Tahoma"/>
              </a:rPr>
              <a:t>estudiante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(el 95%), o con </a:t>
            </a:r>
            <a:r>
              <a:rPr b="1" lang="es-ES" sz="2000" spc="-1" strike="noStrike">
                <a:solidFill>
                  <a:srgbClr val="ffff99"/>
                </a:solidFill>
                <a:latin typeface="Tahoma"/>
              </a:rPr>
              <a:t>educación superior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(el 89% de los titulares universitarios o similares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1979640" y="404640"/>
            <a:ext cx="4968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64d18"/>
                </a:solidFill>
                <a:latin typeface="Impact"/>
              </a:rPr>
              <a:t>Comercio on-lin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64d18"/>
              </a:solidFill>
              <a:latin typeface="Impact"/>
              <a:ea typeface="Impact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1"/>
          <a:stretch/>
        </p:blipFill>
        <p:spPr>
          <a:xfrm>
            <a:off x="7380360" y="333360"/>
            <a:ext cx="136836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9" name=""/>
          <p:cNvGraphicFramePr/>
          <p:nvPr/>
        </p:nvGraphicFramePr>
        <p:xfrm>
          <a:off x="1476360" y="6381720"/>
          <a:ext cx="5400720" cy="25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6381720"/>
                    <a:ext cx="540072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0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0" fill="hold"/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0" fill="hold"/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0" fill="hold"/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0" fill="hold"/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 84% de los españoles utiliza el correo electrónico, sin embargo sólo el 13% de los internáutas españoles habla por internet con o sin cámara web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comunicación por internet alcanza todo tipo de temas desde los de carácter personal hasta los de trabajo o estudi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os chats son un espacio de comunicación más centrado en los temas persona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 txBox="1"/>
          <p:nvPr/>
        </p:nvSpPr>
        <p:spPr>
          <a:xfrm>
            <a:off x="684360" y="404640"/>
            <a:ext cx="640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ternet como espacio de comunicació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835280" y="4076640"/>
          <a:ext cx="6049800" cy="278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35280" y="4076640"/>
                    <a:ext cx="604980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7" name=""/>
          <p:cNvSpPr/>
          <p:nvPr/>
        </p:nvSpPr>
        <p:spPr>
          <a:xfrm>
            <a:off x="3059280" y="3500280"/>
            <a:ext cx="54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50348"/>
                </a:solidFill>
                <a:latin typeface="Trebuchet MS"/>
              </a:rPr>
              <a:t>Temas de los que habla la gente jóven por internet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9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1" dur="20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2000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1" dur="2000"/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8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Century Gothic"/>
              </a:rPr>
              <a:t>CADENAS NACIONALES DE TELEVISIÓ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a televisión pública cumple ya 50 añ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99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s-ES_tradnl" sz="2400" spc="-1" strike="noStrike" u="sng">
                <a:solidFill>
                  <a:srgbClr val="ffff99"/>
                </a:solidFill>
                <a:uFillTx/>
                <a:latin typeface="Tahoma"/>
                <a:hlinkClick r:id="rId3"/>
              </a:rPr>
              <a:t>www.rtve.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n la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écada de los 90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nacieron dos nuevos canales, Antena 3 y Telecinco, que con el paso del tiempo se han ido afianzand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99"/>
                </a:solidFill>
                <a:uFillTx/>
                <a:latin typeface="Tahoma"/>
                <a:hlinkClick r:id="rId5"/>
              </a:rPr>
              <a:t>http://www.antena3tv.co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99"/>
                </a:solidFill>
                <a:uFillTx/>
                <a:latin typeface="Tahoma"/>
                <a:hlinkClick r:id="rId6"/>
              </a:rPr>
              <a:t>http</a:t>
            </a:r>
            <a:r>
              <a:rPr b="0" lang="es-ES_tradnl" sz="2400" spc="-1" strike="noStrike" u="sng">
                <a:solidFill>
                  <a:srgbClr val="ffff99"/>
                </a:solidFill>
                <a:uFillTx/>
                <a:latin typeface="Tahoma"/>
                <a:hlinkClick r:id="rId7"/>
              </a:rPr>
              <a:t>://</a:t>
            </a:r>
            <a:r>
              <a:rPr b="0" lang="es-ES_tradnl" sz="2400" spc="-1" strike="noStrike" u="sng">
                <a:solidFill>
                  <a:srgbClr val="ffff99"/>
                </a:solidFill>
                <a:uFillTx/>
                <a:latin typeface="Tahoma"/>
                <a:hlinkClick r:id="rId8"/>
              </a:rPr>
              <a:t>www.telecinco.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urante el 2005 y 2006 hemos sido testigo del nacimiento de dos nuevos canales de televisión, Canal 4 y la Sext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99"/>
                </a:solidFill>
                <a:uFillTx/>
                <a:latin typeface="Tahoma"/>
                <a:hlinkClick r:id="rId10"/>
              </a:rPr>
              <a:t>http://www.cuatro.co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99"/>
                </a:solidFill>
                <a:uFillTx/>
                <a:latin typeface="Tahoma"/>
                <a:hlinkClick r:id="rId11"/>
              </a:rPr>
              <a:t>http://www.lasexta.com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d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á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 de las cadenas nacionales, en Espa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ñ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 hay un buen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úmer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de cadenas auto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ó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icas, regionales, locales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3"/>
          <a:stretch/>
        </p:blipFill>
        <p:spPr>
          <a:xfrm>
            <a:off x="4572000" y="3070080"/>
            <a:ext cx="647640" cy="61920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14"/>
          <a:stretch/>
        </p:blipFill>
        <p:spPr>
          <a:xfrm>
            <a:off x="5940360" y="3068640"/>
            <a:ext cx="681120" cy="64764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/>
          <p:cNvPicPr/>
          <p:nvPr/>
        </p:nvPicPr>
        <p:blipFill>
          <a:blip r:embed="rId15"/>
          <a:stretch/>
        </p:blipFill>
        <p:spPr>
          <a:xfrm>
            <a:off x="4114800" y="4876920"/>
            <a:ext cx="1584360" cy="576000"/>
          </a:xfrm>
          <a:prstGeom prst="rect">
            <a:avLst/>
          </a:prstGeom>
          <a:ln w="0">
            <a:noFill/>
          </a:ln>
        </p:spPr>
      </p:pic>
      <p:pic>
        <p:nvPicPr>
          <p:cNvPr id="833" name="" descr=""/>
          <p:cNvPicPr/>
          <p:nvPr/>
        </p:nvPicPr>
        <p:blipFill>
          <a:blip r:embed="rId16"/>
          <a:stretch/>
        </p:blipFill>
        <p:spPr>
          <a:xfrm>
            <a:off x="7812000" y="333360"/>
            <a:ext cx="792360" cy="69048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Ver Video"/>
          <p:cNvPicPr/>
          <p:nvPr/>
        </p:nvPicPr>
        <p:blipFill>
          <a:blip r:embed="rId17"/>
          <a:stretch/>
        </p:blipFill>
        <p:spPr>
          <a:xfrm>
            <a:off x="6477120" y="1523880"/>
            <a:ext cx="1371600" cy="69552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18"/>
          <a:stretch/>
        </p:blipFill>
        <p:spPr>
          <a:xfrm>
            <a:off x="6248520" y="480060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0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2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7" dur="500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8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6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1" dur="500"/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0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Ranking de audiencias 2005</a:t>
            </a:r>
            <a:br>
              <a:rPr sz="4000"/>
            </a:br>
            <a:r>
              <a:rPr b="1" i="1" lang="en-GB" sz="1400" spc="-1" strike="noStrike">
                <a:solidFill>
                  <a:srgbClr val="ffff99"/>
                </a:solidFill>
                <a:latin typeface="Arial"/>
              </a:rPr>
              <a:t>Elaboración Corporación Multimedia sobre datos TN Audiencia de Medios </a:t>
            </a:r>
            <a:br>
              <a:rPr sz="1400"/>
            </a:br>
            <a:r>
              <a:rPr b="1" i="1" lang="en-GB" sz="1400" spc="-1" strike="noStrike">
                <a:solidFill>
                  <a:srgbClr val="ffff99"/>
                </a:solidFill>
                <a:latin typeface="Arial"/>
              </a:rPr>
              <a:t>Emisiones con duración igual o superior a 10 minutos</a:t>
            </a: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837" name=""/>
          <p:cNvGraphicFramePr/>
          <p:nvPr/>
        </p:nvGraphicFramePr>
        <p:xfrm>
          <a:off x="457200" y="1600200"/>
          <a:ext cx="8002440" cy="4743360"/>
        </p:xfrm>
        <a:graphic>
          <a:graphicData uri="http://schemas.openxmlformats.org/drawingml/2006/table">
            <a:tbl>
              <a:tblPr/>
              <a:tblGrid>
                <a:gridCol w="584280"/>
                <a:gridCol w="5618160"/>
                <a:gridCol w="865080"/>
                <a:gridCol w="934920"/>
              </a:tblGrid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ISIÓN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D.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ÍA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útbol: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lasificación mundial: San Marino-España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3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/1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útbol: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lasificación mundial: España – Eslovaquia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VE1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/11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Serie española: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quí no hay quien viva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3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/02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Serie española: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quí no hay quien viva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3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/01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útbol: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iga de campeones: Juventus – Real Madrid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VE1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9/03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útbol: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lasificación mundial: Serbia – España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3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/03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Serie española: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quí no hay quien viva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3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2/02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útbol: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iga de campeones: Barcelona – Chelsea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VE1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/02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útbol: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lasificación mundial: Eslovaquia – España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3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/11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útbol: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lasificación mundial: España – Serbia 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VE1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7/09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1" dur="indefinite" restart="never" nodeType="tmRoot">
          <p:childTnLst>
            <p:seq>
              <p:cTn id="1592" dur="indefinite" nodeType="mainSeq">
                <p:childTnLst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03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El </a:t>
            </a:r>
            <a:r>
              <a:rPr b="0" i="1" lang="es-ES_tradnl" sz="4400" spc="-1" strike="noStrike">
                <a:solidFill>
                  <a:srgbClr val="ffff99"/>
                </a:solidFill>
                <a:latin typeface="Arial"/>
              </a:rPr>
              <a:t>boom </a:t>
            </a: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de las series española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ccff"/>
                </a:solidFill>
                <a:latin typeface="Verdana"/>
              </a:rPr>
              <a:t>Hoy en día, se ve más ficción española que nunca. Y además, muchas series españolas han vendido su formato a otros países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cc"/>
                </a:solidFill>
                <a:latin typeface="Verdana"/>
              </a:rPr>
              <a:t>Cuéntame como pasó (TVE 1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http://www.cuentamecomopaso.net/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cc00cc"/>
                </a:solidFill>
                <a:latin typeface="Verdana"/>
              </a:rPr>
              <a:t>Los Serrano (T5), 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se ha vendido a Uruguay, Chile, Francia, Portugal e Italia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http://www.losserrano.telecinco.es/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cc"/>
                </a:solidFill>
                <a:latin typeface="Verdana"/>
              </a:rPr>
              <a:t>Aquí no hay quién viva (A3)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 pronte s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e podrá ver en Latinoamérica, en cadenas hispanas de EEUU y se ha vendido el formato a Italia y Portugal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http://www.antena3.com/aquinohayquienviva/</a:t>
            </a:r>
            <a:r>
              <a:rPr b="1" lang="en-GB" sz="1400" spc="-1" strike="noStrike">
                <a:solidFill>
                  <a:srgbClr val="cc00cc"/>
                </a:solidFill>
                <a:latin typeface="Verdana"/>
              </a:rPr>
              <a:t>Siete vidas (T5) 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a partir de un divertido personaje de esta serie, surgió otra nueva serie </a:t>
            </a:r>
            <a:r>
              <a:rPr b="1" lang="en-GB" sz="1400" spc="-1" strike="noStrike">
                <a:solidFill>
                  <a:srgbClr val="cc00cc"/>
                </a:solidFill>
                <a:latin typeface="Verdana"/>
              </a:rPr>
              <a:t>Aída (T5)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http://www.7vidas.telecinco.es/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http://www.aida.telecinco.es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00cc"/>
                </a:solidFill>
                <a:latin typeface="Verdana"/>
              </a:rPr>
              <a:t>Hospital Central (T5)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 se emite en México y en cadenas hispanas de EEUU y el formato se ha vendido a varios países europeos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ffff99"/>
                </a:solidFill>
                <a:uFillTx/>
                <a:latin typeface="Verdana"/>
                <a:hlinkClick r:id="rId10"/>
              </a:rPr>
              <a:t>http://www.hospitalcentral.telecinco.es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Sin embargo, la que más se ha exportado ha sido </a:t>
            </a:r>
            <a:r>
              <a:rPr b="1" lang="es-ES_tradnl" sz="1400" spc="-1" strike="noStrike">
                <a:solidFill>
                  <a:srgbClr val="cc00cc"/>
                </a:solidFill>
                <a:latin typeface="Verdana"/>
              </a:rPr>
              <a:t>Un paso adelante (A3)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, serie que se desarrollaba en una academia de música y que se vendió a Italia, Francia, Cuba, Bélgica, Uruguay, Serbia-Montenegro, Portugal, Alemania, Brasil y México. </a:t>
            </a:r>
            <a:r>
              <a:rPr b="0" lang="es-ES_tradnl" sz="1400" spc="-1" strike="noStrike" u="sng">
                <a:solidFill>
                  <a:srgbClr val="ffff99"/>
                </a:solidFill>
                <a:uFillTx/>
                <a:latin typeface="Verdana"/>
                <a:hlinkClick r:id="rId11"/>
              </a:rPr>
              <a:t>http</a:t>
            </a:r>
            <a:r>
              <a:rPr b="0" lang="es-ES_tradnl" sz="1400" spc="-1" strike="noStrike" u="sng">
                <a:solidFill>
                  <a:srgbClr val="ffff99"/>
                </a:solidFill>
                <a:uFillTx/>
                <a:latin typeface="Verdana"/>
                <a:hlinkClick r:id="rId12"/>
              </a:rPr>
              <a:t>://www.antena3.com/unpasoadelante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13"/>
          <a:stretch/>
        </p:blipFill>
        <p:spPr>
          <a:xfrm>
            <a:off x="7020000" y="1413000"/>
            <a:ext cx="1904760" cy="2438280"/>
          </a:xfrm>
          <a:prstGeom prst="rect">
            <a:avLst/>
          </a:prstGeom>
          <a:ln w="0">
            <a:noFill/>
          </a:ln>
        </p:spPr>
      </p:pic>
      <p:pic>
        <p:nvPicPr>
          <p:cNvPr id="841" name="" descr=""/>
          <p:cNvPicPr/>
          <p:nvPr/>
        </p:nvPicPr>
        <p:blipFill>
          <a:blip r:embed="rId14"/>
          <a:stretch/>
        </p:blipFill>
        <p:spPr>
          <a:xfrm>
            <a:off x="7164360" y="4076640"/>
            <a:ext cx="1765440" cy="227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0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5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500"/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7" dur="500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500"/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9" dur="500"/>
                                        <p:tgtEl>
                                          <p:spTgt spid="8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8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8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6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1" dur="500"/>
                                        <p:tgtEl>
                                          <p:spTgt spid="8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8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8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6" dur="500"/>
                                        <p:tgtEl>
                                          <p:spTgt spid="8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8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8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3" dur="500"/>
                                        <p:tgtEl>
                                          <p:spTgt spid="8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8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8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0" dur="500"/>
                                        <p:tgtEl>
                                          <p:spTgt spid="8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8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8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7" dur="500"/>
                                        <p:tgtEl>
                                          <p:spTgt spid="8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8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8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4" dur="500"/>
                                        <p:tgtEl>
                                          <p:spTgt spid="8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8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8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1" dur="500"/>
                                        <p:tgtEl>
                                          <p:spTgt spid="8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8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8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8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Century Gothic"/>
              </a:rPr>
              <a:t>Concurs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49952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ccff"/>
                </a:solidFill>
                <a:latin typeface="Verdana"/>
              </a:rPr>
              <a:t>En España, se pueden ver algunos de los concursos que más triunfan en otros países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Mira quien baila</a:t>
            </a:r>
            <a:r>
              <a:rPr b="0" i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(TVE1) 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http://www.miraquienbaila.es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¿Quién quiere ser millonario? (A3) 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http://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www.antena3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.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com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/millonario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El rival más débil (TVE1) 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Verdana"/>
                <a:hlinkClick r:id="rId10"/>
              </a:rPr>
              <a:t>http://www.elrivalmasdebil.com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Gran hermano (T5) 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Verdana"/>
                <a:hlinkClick r:id="rId12"/>
              </a:rPr>
              <a:t>http://www.granhermano.telecinco.es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Allá tú (T5)</a:t>
            </a:r>
            <a:r>
              <a:rPr b="0" lang="es-ES_tradnl" sz="1600" spc="-1" strike="noStrike">
                <a:solidFill>
                  <a:srgbClr val="cc00cc"/>
                </a:solidFill>
                <a:latin typeface="Verdana"/>
              </a:rPr>
              <a:t> 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Verdana"/>
                <a:hlinkClick r:id="rId14"/>
              </a:rPr>
              <a:t>http: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Verdana"/>
                <a:hlinkClick r:id="rId15"/>
              </a:rPr>
              <a:t>//www.telecinco.es/allatu.htm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ccff"/>
                </a:solidFill>
                <a:latin typeface="Verdana"/>
              </a:rPr>
              <a:t>Sin embargo, también se han exportado algunos concursos españoles a otros países. Algunos se emiten como los conocemos y de otros se han hecho versiones para el país de origen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En Europa, se han hecho varias versiones de </a:t>
            </a:r>
            <a:r>
              <a:rPr b="1" lang="es-ES_tradnl" sz="1600" spc="-1" strike="noStrike">
                <a:solidFill>
                  <a:srgbClr val="cc00cc"/>
                </a:solidFill>
                <a:latin typeface="Verdana"/>
              </a:rPr>
              <a:t>Operación Triunfo (T5)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y también se ha vendido el formato a la cadena estadounidense ABC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Verdana"/>
                <a:hlinkClick r:id="rId17"/>
              </a:rPr>
              <a:t>http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Verdana"/>
                <a:hlinkClick r:id="rId18"/>
              </a:rPr>
              <a:t>://www.ot.telecinco.es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Verdana"/>
              </a:rPr>
              <a:t>¿Qué apostamos? (TVE1),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Este programa en el que famosos apuestan si los concursantes son capaces de realizar la prueba propuesta tiene su propia versión en Polonia.   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Verdana"/>
                <a:hlinkClick r:id="rId20"/>
              </a:rPr>
              <a:t>http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Verdana"/>
                <a:hlinkClick r:id="rId21"/>
              </a:rPr>
              <a:t>://www.rtve.es/queapostamos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Verdana"/>
              </a:rPr>
              <a:t>Gran Prix (TVE1),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la versión original de este concurso, en el que dos pueblos se enfrentan, se emite doblada en Indonesia.  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Verdana"/>
                <a:hlinkClick r:id="rId23"/>
              </a:rPr>
              <a:t>http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Verdana"/>
                <a:hlinkClick r:id="rId24"/>
              </a:rPr>
              <a:t>://www.rtve.es/granprix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4" name="" descr=""/>
          <p:cNvPicPr/>
          <p:nvPr/>
        </p:nvPicPr>
        <p:blipFill>
          <a:blip r:embed="rId25"/>
          <a:stretch/>
        </p:blipFill>
        <p:spPr>
          <a:xfrm>
            <a:off x="7467480" y="609480"/>
            <a:ext cx="1428840" cy="161928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7162920" y="2362320"/>
            <a:ext cx="18288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Garamond"/>
              </a:rPr>
              <a:t>Jesus Vazquez, presentador de Allá tú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1" dur="500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6" dur="500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1" dur="500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6" dur="500"/>
                                        <p:tgtEl>
                                          <p:spTgt spid="8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1" dur="500"/>
                                        <p:tgtEl>
                                          <p:spTgt spid="8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6" dur="500"/>
                                        <p:tgtEl>
                                          <p:spTgt spid="8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1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6" dur="500"/>
                                        <p:tgtEl>
                                          <p:spTgt spid="8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1" dur="500"/>
                                        <p:tgtEl>
                                          <p:spTgt spid="8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4" dur="500"/>
                                        <p:tgtEl>
                                          <p:spTgt spid="8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9" dur="500"/>
                                        <p:tgtEl>
                                          <p:spTgt spid="8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Otros programa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075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Magazin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cc"/>
                </a:solidFill>
                <a:latin typeface="Verdana"/>
              </a:rPr>
              <a:t>El programa de Ana Rosa </a:t>
            </a:r>
            <a:r>
              <a:rPr b="0" lang="es-ES_tradnl" sz="20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http://www.anarosa.telecinco.es/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cc00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cc"/>
                </a:solidFill>
                <a:latin typeface="Verdana"/>
              </a:rPr>
              <a:t>A tu lado </a:t>
            </a:r>
            <a:r>
              <a:rPr b="0" lang="es-ES_tradnl" sz="20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http://www.atulado.telecinco.es/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ccff"/>
                </a:solidFill>
                <a:latin typeface="Verdana"/>
              </a:rPr>
              <a:t>Desde hace algunos años, se ha hecho cada vez más popular los programas del corazón. Cada cadena tiene al menos uno o dos programas de este tipo. Los más populare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cc"/>
                </a:solidFill>
                <a:latin typeface="Verdana"/>
              </a:rPr>
              <a:t>Salsa rosa (T5) </a:t>
            </a:r>
            <a:r>
              <a:rPr b="0" lang="es-ES_tradnl" sz="20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http://www.salsarosa.telecinco.es/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cc"/>
                </a:solidFill>
                <a:latin typeface="Verdana"/>
              </a:rPr>
              <a:t>¿Dónde estás corazón? (A3) </a:t>
            </a:r>
            <a:r>
              <a:rPr b="0" lang="es-ES_tradnl" sz="20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http://www.antena3.com/corazon/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cc"/>
                </a:solidFill>
                <a:latin typeface="Verdana"/>
              </a:rPr>
              <a:t>Aquí hay tomate (T5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 u="sng">
                <a:solidFill>
                  <a:srgbClr val="ffff99"/>
                </a:solidFill>
                <a:uFillTx/>
                <a:latin typeface="Verdana"/>
                <a:hlinkClick r:id="rId9"/>
              </a:rPr>
              <a:t>http://</a:t>
            </a:r>
            <a:r>
              <a:rPr b="0" lang="es-ES_tradnl" sz="2000" spc="-1" strike="noStrike" u="sng">
                <a:solidFill>
                  <a:srgbClr val="ffff99"/>
                </a:solidFill>
                <a:uFillTx/>
                <a:latin typeface="Verdana"/>
                <a:hlinkClick r:id="rId10"/>
              </a:rPr>
              <a:t>www.aquihaytomate.telecinco.es</a:t>
            </a:r>
            <a:r>
              <a:rPr b="0" lang="es-ES_tradnl" sz="2000" spc="-1" strike="noStrike" u="sng">
                <a:solidFill>
                  <a:srgbClr val="ffff99"/>
                </a:solidFill>
                <a:uFillTx/>
                <a:latin typeface="Verdana"/>
                <a:hlinkClick r:id="rId11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2"/>
          <a:stretch/>
        </p:blipFill>
        <p:spPr>
          <a:xfrm>
            <a:off x="7467480" y="3886200"/>
            <a:ext cx="1428840" cy="160020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629400" y="54450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Garamond"/>
              </a:rPr>
              <a:t>Jorge Javier</a:t>
            </a:r>
            <a:r>
              <a:rPr b="0" lang="es-PE" sz="1800" spc="-1" strike="noStrike">
                <a:solidFill>
                  <a:srgbClr val="ffffff"/>
                </a:solidFill>
                <a:latin typeface="Garamond"/>
              </a:rPr>
              <a:t>  y </a:t>
            </a:r>
            <a:r>
              <a:rPr b="1" lang="es-PE" sz="1800" spc="-1" strike="noStrike">
                <a:solidFill>
                  <a:srgbClr val="ffffff"/>
                </a:solidFill>
                <a:latin typeface="Garamond"/>
              </a:rPr>
              <a:t>Carmen Alcaide, presentadores de 'Aquí hay tomate'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5" dur="indefinite" restart="never" nodeType="tmRoot">
          <p:childTnLst>
            <p:seq>
              <p:cTn id="1766" dur="indefinite" nodeType="mainSeq">
                <p:childTnLst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0" dur="2000" fill="hold"/>
                                        <p:tgtEl>
                                          <p:spTgt spid="8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5" dur="500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0" dur="500"/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5" dur="500"/>
                                        <p:tgtEl>
                                          <p:spTgt spid="8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0" dur="500"/>
                                        <p:tgtEl>
                                          <p:spTgt spid="8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5" dur="500"/>
                                        <p:tgtEl>
                                          <p:spTgt spid="8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0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0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3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5000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0" name=""/>
          <p:cNvGrpSpPr/>
          <p:nvPr/>
        </p:nvGrpSpPr>
        <p:grpSpPr>
          <a:xfrm>
            <a:off x="1646280" y="1184400"/>
            <a:ext cx="5851440" cy="3440160"/>
            <a:chOff x="1646280" y="1184400"/>
            <a:chExt cx="5851440" cy="3440160"/>
          </a:xfrm>
        </p:grpSpPr>
        <p:sp>
          <p:nvSpPr>
            <p:cNvPr id="851" name="_s63557"/>
            <p:cNvSpPr/>
            <p:nvPr/>
          </p:nvSpPr>
          <p:spPr>
            <a:xfrm>
              <a:off x="3814920" y="1712880"/>
              <a:ext cx="1514160" cy="151452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2" name="_s63506"/>
            <p:cNvSpPr/>
            <p:nvPr/>
          </p:nvSpPr>
          <p:spPr>
            <a:xfrm>
              <a:off x="3814920" y="1184400"/>
              <a:ext cx="151416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N ESPAÑA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3" name="_s63558"/>
            <p:cNvSpPr/>
            <p:nvPr/>
          </p:nvSpPr>
          <p:spPr>
            <a:xfrm>
              <a:off x="4362480" y="2109960"/>
              <a:ext cx="1514520" cy="15145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4" name="_s63507"/>
            <p:cNvSpPr/>
            <p:nvPr/>
          </p:nvSpPr>
          <p:spPr>
            <a:xfrm>
              <a:off x="5983200" y="2210040"/>
              <a:ext cx="1514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PELíCULAS 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EXTRANJERAS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5" name="_s63559"/>
            <p:cNvSpPr/>
            <p:nvPr/>
          </p:nvSpPr>
          <p:spPr>
            <a:xfrm>
              <a:off x="4154400" y="2754360"/>
              <a:ext cx="1514520" cy="151452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6" name="_s63509"/>
            <p:cNvSpPr/>
            <p:nvPr/>
          </p:nvSpPr>
          <p:spPr>
            <a:xfrm>
              <a:off x="5443560" y="4246560"/>
              <a:ext cx="15145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NQUISTANDO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OLLYWOOD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7" name="_s63563"/>
            <p:cNvSpPr/>
            <p:nvPr/>
          </p:nvSpPr>
          <p:spPr>
            <a:xfrm>
              <a:off x="3476520" y="2755800"/>
              <a:ext cx="1514520" cy="15145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8" name="_s63564"/>
            <p:cNvSpPr/>
            <p:nvPr/>
          </p:nvSpPr>
          <p:spPr>
            <a:xfrm>
              <a:off x="2184480" y="4245120"/>
              <a:ext cx="1514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STIVALES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9" name="_s63560"/>
            <p:cNvSpPr/>
            <p:nvPr/>
          </p:nvSpPr>
          <p:spPr>
            <a:xfrm>
              <a:off x="3265560" y="2111400"/>
              <a:ext cx="1514520" cy="1514520"/>
            </a:xfrm>
            <a:prstGeom prst="ellipse">
              <a:avLst/>
            </a:prstGeom>
            <a:solidFill>
              <a:srgbClr val="1a0fff">
                <a:alpha val="50000"/>
              </a:srgbClr>
            </a:solidFill>
            <a:ln w="9360">
              <a:solidFill>
                <a:srgbClr val="1a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0" name="_s63511"/>
            <p:cNvSpPr/>
            <p:nvPr/>
          </p:nvSpPr>
          <p:spPr>
            <a:xfrm>
              <a:off x="1646280" y="2208240"/>
              <a:ext cx="15145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PELíCULAS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ESPAÑOLAS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3963960" y="274320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INE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816" dur="indefinite" restart="never" nodeType="tmRoot">
          <p:childTnLst>
            <p:seq>
              <p:cTn id="1817" dur="indefinite" nodeType="mainSeq">
                <p:childTnLst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8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IARI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038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l ABC, La Razón, El País, El Mundo, La Vanguardia, El Periódico,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"/>
          <p:cNvSpPr/>
          <p:nvPr/>
        </p:nvSpPr>
        <p:spPr>
          <a:xfrm>
            <a:off x="4572000" y="20574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l País y El Mundo: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 Los más leídos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 Tienen difusión mundial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3352680"/>
            <a:ext cx="36766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 tipo de lector varía según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 ideología política de cada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iódico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90720" y="4495680"/>
            <a:ext cx="69339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ienen calidad y son atractivos, porque: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 grandes escritores son o han sido redactores o  colaboradores: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Miguel Delibe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Mario Vargas Llos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…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 grandes columnistas como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Martín Prieto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Federico Jiménez Losanto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… transmiten polémica al debate de ideas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6443640" y="189000"/>
            <a:ext cx="1859040" cy="189540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>
            <a:off x="812880" y="1916280"/>
            <a:ext cx="2914560" cy="2189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El cine en Espa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ñ</a:t>
            </a: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El cine espa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ñol se distingue por el uso de temas controvertido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Las películas se hacen para conmover y hacer pensar al espectado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Hoy en día el cine español está en aug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Se reconoce el trabajo de directores y actores españoles fuera de nuestras frontera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4" name=""/>
          <p:cNvSpPr/>
          <p:nvPr/>
        </p:nvSpPr>
        <p:spPr>
          <a:xfrm>
            <a:off x="4724280" y="4419720"/>
            <a:ext cx="4572000" cy="23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l cine americano sigue siendo el más visto en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nuestro país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Los jóvenes prefieren las películas violentas y de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cción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Nuestros festivales están adquiriendo fama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nternacional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elículas españolas compiten por los mejores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emios con industrias más potentes del celuloide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5"/>
          <a:stretch/>
        </p:blipFill>
        <p:spPr>
          <a:xfrm>
            <a:off x="1295280" y="3962520"/>
            <a:ext cx="1447920" cy="205740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6"/>
          <a:stretch/>
        </p:blipFill>
        <p:spPr>
          <a:xfrm>
            <a:off x="6248520" y="1828800"/>
            <a:ext cx="1600200" cy="213372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1144800" y="60199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266880" y="396252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5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6" dur="2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2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2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3" dur="500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8" dur="500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5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0" dur="500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5" dur="500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0" dur="5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3" dur="500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8" dur="500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1" dur="500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6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4" dur="500"/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7" dur="500"/>
                                        <p:tgtEl>
                                          <p:spTgt spid="8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2" dur="500"/>
                                        <p:tgtEl>
                                          <p:spTgt spid="8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5" dur="500"/>
                                        <p:tgtEl>
                                          <p:spTgt spid="8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Pel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í</a:t>
            </a: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culas espa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ñ</a:t>
            </a: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olas</a:t>
            </a: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Riqueza tem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ática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Históricos: Guerra Civi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Dictadur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La democracia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Los años 80…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Actuales:   Malos trato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Juventud problemátic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Enfermedad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Droga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Sexo…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Estos temas se tratan sin ning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ú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n tipo de tabú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En la mayor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ía hay una denuncia social reflejo de una realida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Las películas que más han impactado son las que más polémica han creado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5"/>
          <a:stretch/>
        </p:blipFill>
        <p:spPr>
          <a:xfrm>
            <a:off x="4343400" y="1523880"/>
            <a:ext cx="811080" cy="137160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6"/>
          <a:stretch/>
        </p:blipFill>
        <p:spPr>
          <a:xfrm>
            <a:off x="5943600" y="2666880"/>
            <a:ext cx="971640" cy="114300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7"/>
          <a:stretch/>
        </p:blipFill>
        <p:spPr>
          <a:xfrm>
            <a:off x="5638680" y="1066680"/>
            <a:ext cx="1022400" cy="1447920"/>
          </a:xfrm>
          <a:prstGeom prst="rect">
            <a:avLst/>
          </a:prstGeom>
          <a:ln w="0">
            <a:noFill/>
          </a:ln>
        </p:spPr>
      </p:pic>
      <p:pic>
        <p:nvPicPr>
          <p:cNvPr id="874" name="" descr=""/>
          <p:cNvPicPr/>
          <p:nvPr/>
        </p:nvPicPr>
        <p:blipFill>
          <a:blip r:embed="rId8"/>
          <a:stretch/>
        </p:blipFill>
        <p:spPr>
          <a:xfrm>
            <a:off x="7848720" y="2743200"/>
            <a:ext cx="965160" cy="137160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9"/>
          <a:stretch/>
        </p:blipFill>
        <p:spPr>
          <a:xfrm>
            <a:off x="6477120" y="5257800"/>
            <a:ext cx="914400" cy="122868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10"/>
          <a:stretch/>
        </p:blipFill>
        <p:spPr>
          <a:xfrm>
            <a:off x="7162920" y="1219320"/>
            <a:ext cx="1752480" cy="1272960"/>
          </a:xfrm>
          <a:prstGeom prst="rect">
            <a:avLst/>
          </a:prstGeom>
          <a:ln w="0">
            <a:noFill/>
          </a:ln>
        </p:spPr>
      </p:pic>
      <p:pic>
        <p:nvPicPr>
          <p:cNvPr id="877" name="" descr=""/>
          <p:cNvPicPr/>
          <p:nvPr/>
        </p:nvPicPr>
        <p:blipFill>
          <a:blip r:embed="rId11"/>
          <a:stretch/>
        </p:blipFill>
        <p:spPr>
          <a:xfrm>
            <a:off x="4572000" y="32767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878" name="" descr=""/>
          <p:cNvPicPr/>
          <p:nvPr/>
        </p:nvPicPr>
        <p:blipFill>
          <a:blip r:embed="rId12"/>
          <a:stretch/>
        </p:blipFill>
        <p:spPr>
          <a:xfrm>
            <a:off x="5105520" y="4952880"/>
            <a:ext cx="861840" cy="121932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13"/>
          <a:stretch/>
        </p:blipFill>
        <p:spPr>
          <a:xfrm>
            <a:off x="7772400" y="4724280"/>
            <a:ext cx="1039680" cy="152424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14"/>
          <a:stretch/>
        </p:blipFill>
        <p:spPr>
          <a:xfrm>
            <a:off x="6248520" y="3965400"/>
            <a:ext cx="796680" cy="114300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/>
          <p:cNvPicPr/>
          <p:nvPr/>
        </p:nvPicPr>
        <p:blipFill>
          <a:blip r:embed="rId15"/>
          <a:stretch/>
        </p:blipFill>
        <p:spPr>
          <a:xfrm>
            <a:off x="3886200" y="5410080"/>
            <a:ext cx="755640" cy="11430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16"/>
          <a:stretch/>
        </p:blipFill>
        <p:spPr>
          <a:xfrm>
            <a:off x="2666880" y="5486400"/>
            <a:ext cx="800280" cy="10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6" dur="indefinite" restart="never" nodeType="tmRoot">
          <p:childTnLst>
            <p:seq>
              <p:cTn id="1907" dur="indefinite" nodeType="mainSeq">
                <p:childTnLst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0" dur="800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1" dur="8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8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8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0" dur="800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1" dur="8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8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8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8" dur="800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9" dur="800" fill="hold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800" fill="hold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800" fill="hold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6" dur="800"/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7" dur="800" fill="hold"/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800" fill="hold"/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800" fill="hold"/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4" dur="800"/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5" dur="800" fill="hold"/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800" fill="hold"/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800" fill="hold"/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4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9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7" dur="800"/>
                                        <p:tgtEl>
                                          <p:spTgt spid="8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8" dur="800" fill="hold"/>
                                        <p:tgtEl>
                                          <p:spTgt spid="8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800" fill="hold"/>
                                        <p:tgtEl>
                                          <p:spTgt spid="8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800" fill="hold"/>
                                        <p:tgtEl>
                                          <p:spTgt spid="8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7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1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3" dur="800"/>
                                        <p:tgtEl>
                                          <p:spTgt spid="8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4" dur="800" fill="hold"/>
                                        <p:tgtEl>
                                          <p:spTgt spid="8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800" fill="hold"/>
                                        <p:tgtEl>
                                          <p:spTgt spid="8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800" fill="hold"/>
                                        <p:tgtEl>
                                          <p:spTgt spid="8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3" dur="800"/>
                                        <p:tgtEl>
                                          <p:spTgt spid="8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4" dur="800" fill="hold"/>
                                        <p:tgtEl>
                                          <p:spTgt spid="8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800" fill="hold"/>
                                        <p:tgtEl>
                                          <p:spTgt spid="8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800" fill="hold"/>
                                        <p:tgtEl>
                                          <p:spTgt spid="8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1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9" dur="800"/>
                                        <p:tgtEl>
                                          <p:spTgt spid="8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0" dur="800" fill="hold"/>
                                        <p:tgtEl>
                                          <p:spTgt spid="8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800" fill="hold"/>
                                        <p:tgtEl>
                                          <p:spTgt spid="8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800" fill="hold"/>
                                        <p:tgtEl>
                                          <p:spTgt spid="8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9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2" fill="hold">
                      <p:stCondLst>
                        <p:cond delay="indefinite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6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8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3" dur="800"/>
                                        <p:tgtEl>
                                          <p:spTgt spid="8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4" dur="800" fill="hold"/>
                                        <p:tgtEl>
                                          <p:spTgt spid="8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800" fill="hold"/>
                                        <p:tgtEl>
                                          <p:spTgt spid="8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800" fill="hold"/>
                                        <p:tgtEl>
                                          <p:spTgt spid="8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95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0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4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9" dur="800"/>
                                        <p:tgtEl>
                                          <p:spTgt spid="8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0" dur="800" fill="hold"/>
                                        <p:tgtEl>
                                          <p:spTgt spid="8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800" fill="hold"/>
                                        <p:tgtEl>
                                          <p:spTgt spid="8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800" fill="hold"/>
                                        <p:tgtEl>
                                          <p:spTgt spid="8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9" dur="800"/>
                                        <p:tgtEl>
                                          <p:spTgt spid="8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0" dur="800" fill="hold"/>
                                        <p:tgtEl>
                                          <p:spTgt spid="8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800" fill="hold"/>
                                        <p:tgtEl>
                                          <p:spTgt spid="8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800" fill="hold"/>
                                        <p:tgtEl>
                                          <p:spTgt spid="8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4" dur="800"/>
                                        <p:tgtEl>
                                          <p:spTgt spid="8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5" dur="800" fill="hold"/>
                                        <p:tgtEl>
                                          <p:spTgt spid="8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800" fill="hold"/>
                                        <p:tgtEl>
                                          <p:spTgt spid="8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800" fill="hold"/>
                                        <p:tgtEl>
                                          <p:spTgt spid="8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Pel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í</a:t>
            </a: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culas extranjera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Nos ense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ñan una cultura y una sociedad diferentes a la nuestr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or lo general, no tratan temas muy trascendentales. Son más para entretener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Usan los mejores efectos especiale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n ellas aparecen actores conocido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lgunas de las que más éxito han tenido en nuestro país pertenecen a alguno de estos géneros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 ciencia ficció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 dramáticas (basadas sobre todo en hechos reales)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 terro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1081080" cy="152424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505320" y="2438280"/>
            <a:ext cx="914400" cy="137160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3"/>
          <a:stretch/>
        </p:blipFill>
        <p:spPr>
          <a:xfrm>
            <a:off x="304920" y="2895480"/>
            <a:ext cx="990360" cy="1524240"/>
          </a:xfrm>
          <a:prstGeom prst="rect">
            <a:avLst/>
          </a:prstGeom>
          <a:ln w="0">
            <a:noFill/>
          </a:ln>
        </p:spPr>
      </p:pic>
      <p:pic>
        <p:nvPicPr>
          <p:cNvPr id="889" name="" descr=""/>
          <p:cNvPicPr/>
          <p:nvPr/>
        </p:nvPicPr>
        <p:blipFill>
          <a:blip r:embed="rId4"/>
          <a:stretch/>
        </p:blipFill>
        <p:spPr>
          <a:xfrm>
            <a:off x="304920" y="762120"/>
            <a:ext cx="1066680" cy="1523880"/>
          </a:xfrm>
          <a:prstGeom prst="rect">
            <a:avLst/>
          </a:prstGeom>
          <a:ln w="0">
            <a:noFill/>
          </a:ln>
        </p:spPr>
      </p:pic>
      <p:pic>
        <p:nvPicPr>
          <p:cNvPr id="890" name="" descr=""/>
          <p:cNvPicPr/>
          <p:nvPr/>
        </p:nvPicPr>
        <p:blipFill>
          <a:blip r:embed="rId5"/>
          <a:stretch/>
        </p:blipFill>
        <p:spPr>
          <a:xfrm>
            <a:off x="1981080" y="3124080"/>
            <a:ext cx="1067040" cy="144792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6"/>
          <a:stretch/>
        </p:blipFill>
        <p:spPr>
          <a:xfrm>
            <a:off x="228600" y="518148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7"/>
          <a:stretch/>
        </p:blipFill>
        <p:spPr>
          <a:xfrm>
            <a:off x="2057400" y="502920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8"/>
          <a:stretch/>
        </p:blipFill>
        <p:spPr>
          <a:xfrm>
            <a:off x="3809880" y="44197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9"/>
          <a:stretch/>
        </p:blipFill>
        <p:spPr>
          <a:xfrm>
            <a:off x="5943600" y="5257800"/>
            <a:ext cx="952560" cy="1371600"/>
          </a:xfrm>
          <a:prstGeom prst="rect">
            <a:avLst/>
          </a:prstGeom>
          <a:ln w="0">
            <a:noFill/>
          </a:ln>
        </p:spPr>
      </p:pic>
      <p:pic>
        <p:nvPicPr>
          <p:cNvPr id="895" name="" descr=""/>
          <p:cNvPicPr/>
          <p:nvPr/>
        </p:nvPicPr>
        <p:blipFill>
          <a:blip r:embed="rId10"/>
          <a:stretch/>
        </p:blipFill>
        <p:spPr>
          <a:xfrm>
            <a:off x="7772400" y="4724280"/>
            <a:ext cx="952560" cy="14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0" dur="indefinite" restart="never" nodeType="tmRoot">
          <p:childTnLst>
            <p:seq>
              <p:cTn id="2141" dur="indefinite" nodeType="mainSeq">
                <p:childTnLst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4" dur="8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5" dur="8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8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8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4" dur="800"/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5" dur="800" fill="hold"/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800" fill="hold"/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800" fill="hold"/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4" dur="800"/>
                                        <p:tgtEl>
                                          <p:spTgt spid="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5" dur="800" fill="hold"/>
                                        <p:tgtEl>
                                          <p:spTgt spid="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800" fill="hold"/>
                                        <p:tgtEl>
                                          <p:spTgt spid="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800" fill="hold"/>
                                        <p:tgtEl>
                                          <p:spTgt spid="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fill="hold">
                      <p:stCondLst>
                        <p:cond delay="indefinite"/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4" dur="800"/>
                                        <p:tgtEl>
                                          <p:spTgt spid="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5" dur="800" fill="hold"/>
                                        <p:tgtEl>
                                          <p:spTgt spid="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800" fill="hold"/>
                                        <p:tgtEl>
                                          <p:spTgt spid="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800" fill="hold"/>
                                        <p:tgtEl>
                                          <p:spTgt spid="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4" dur="800"/>
                                        <p:tgtEl>
                                          <p:spTgt spid="8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5" dur="800" fill="hold"/>
                                        <p:tgtEl>
                                          <p:spTgt spid="8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800" fill="hold"/>
                                        <p:tgtEl>
                                          <p:spTgt spid="8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800" fill="hold"/>
                                        <p:tgtEl>
                                          <p:spTgt spid="8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4" dur="800"/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5" dur="800" fill="hold"/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800" fill="hold"/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800" fill="hold"/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2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8" dur="800"/>
                                        <p:tgtEl>
                                          <p:spTgt spid="8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9" dur="800" fill="hold"/>
                                        <p:tgtEl>
                                          <p:spTgt spid="8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800" fill="hold"/>
                                        <p:tgtEl>
                                          <p:spTgt spid="8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800" fill="hold"/>
                                        <p:tgtEl>
                                          <p:spTgt spid="8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60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5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1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3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8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4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5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6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7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2" dur="800"/>
                                        <p:tgtEl>
                                          <p:spTgt spid="8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3" dur="800" fill="hold"/>
                                        <p:tgtEl>
                                          <p:spTgt spid="8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800" fill="hold"/>
                                        <p:tgtEl>
                                          <p:spTgt spid="8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800" fill="hold"/>
                                        <p:tgtEl>
                                          <p:spTgt spid="8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2" dur="8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3" dur="8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8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8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14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GB" sz="4000" spc="-1" strike="noStrike">
                <a:solidFill>
                  <a:srgbClr val="ffffcc"/>
                </a:solidFill>
                <a:latin typeface="Arial"/>
              </a:rPr>
              <a:t>Festivales de cine en España</a:t>
            </a:r>
            <a:br>
              <a:rPr sz="3800"/>
            </a:b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28600" y="2438280"/>
            <a:ext cx="403848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LOS GOYA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En Madrid. Los primeros fueron en 1987. 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El premio es una estatuilla  con el busto de Francisco de Goya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28600" y="5762520"/>
            <a:ext cx="403848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SEMINCI, SEMANA  INTERNACIONAL DE CINE DE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VALLADOLID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En Valladolid. Los primeros fueron en 1956.  El premio es una estatuilla con forma de espiga.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105520" y="4800600"/>
            <a:ext cx="403848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ITGES, FESTIVAL INTERNACIONAL DE CINEMA DE CATALUNYA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En Sitges. Los primeros fueron en 1967. El premio que se concede es una medalla con el símbolo de la luna de los hermanos M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é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li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è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.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897520" y="1905120"/>
            <a:ext cx="271512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Tahoma"/>
              </a:rPr>
              <a:t>FESTIVAL DE CINE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Tahoma"/>
              </a:rPr>
              <a:t>DE SAN SEBASTIAN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Tahoma"/>
              </a:rPr>
              <a:t>En San Sebastián. Los primeros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Tahoma"/>
              </a:rPr>
              <a:t>fueron en </a:t>
            </a:r>
            <a:r>
              <a:rPr b="0" lang="en-GB" sz="1000" spc="-1" strike="noStrike">
                <a:solidFill>
                  <a:srgbClr val="ffcc00"/>
                </a:solidFill>
                <a:latin typeface="Tahoma"/>
              </a:rPr>
              <a:t>1953</a:t>
            </a:r>
            <a:r>
              <a:rPr b="0" lang="en-US" sz="1000" spc="-1" strike="noStrike">
                <a:solidFill>
                  <a:srgbClr val="ffcc00"/>
                </a:solidFill>
                <a:latin typeface="Tahoma"/>
              </a:rPr>
              <a:t>. El premio es una estatuilla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Tahoma"/>
              </a:rPr>
              <a:t>con forma de concha.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5040" y="1293840"/>
            <a:ext cx="537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ahoma"/>
              </a:rPr>
              <a:t>- Se celebran anualmente en diferentes ciudades de nuestro pa</a:t>
            </a: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í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- Se premia a las mejores películas y a todo aquello relacionado con ella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- Son de carácter internacional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- Los más conocidos son: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1523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2362320"/>
            <a:ext cx="1067040" cy="129528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4419720"/>
            <a:ext cx="952560" cy="89532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467480" y="4495680"/>
            <a:ext cx="952560" cy="8478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9"/>
          <a:stretch/>
        </p:blipFill>
        <p:spPr>
          <a:xfrm>
            <a:off x="1066680" y="4495680"/>
            <a:ext cx="838440" cy="1168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315" dur="indefinite" restart="never" nodeType="tmRoot">
          <p:childTnLst>
            <p:seq>
              <p:cTn id="2316" dur="indefinite" nodeType="mainSeq">
                <p:childTnLst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1" dur="20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2" dur="2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2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fill="hold">
                      <p:stCondLst>
                        <p:cond delay="indefinite"/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8" dur="500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3" dur="1000" fill="hold"/>
                                        <p:tgtEl>
                                          <p:spTgt spid="8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1000" fill="hold"/>
                                        <p:tgtEl>
                                          <p:spTgt spid="8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1000" fill="hold"/>
                                        <p:tgtEl>
                                          <p:spTgt spid="8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6" dur="1000"/>
                                        <p:tgtEl>
                                          <p:spTgt spid="8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9" dur="2000"/>
                                        <p:tgtEl>
                                          <p:spTgt spid="8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2" dur="2000"/>
                                        <p:tgtEl>
                                          <p:spTgt spid="8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3" dur="2000" fill="hold"/>
                                        <p:tgtEl>
                                          <p:spTgt spid="8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2000" fill="hold"/>
                                        <p:tgtEl>
                                          <p:spTgt spid="8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9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4" dur="500"/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7" dur="500"/>
                                        <p:tgtEl>
                                          <p:spTgt spid="9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0" dur="500"/>
                                        <p:tgtEl>
                                          <p:spTgt spid="9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3" dur="500"/>
                                        <p:tgtEl>
                                          <p:spTgt spid="9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6" dur="500"/>
                                        <p:tgtEl>
                                          <p:spTgt spid="9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fill="hold">
                      <p:stCondLst>
                        <p:cond delay="indefinite"/>
                      </p:stCondLst>
                      <p:childTnLst>
                        <p:par>
                          <p:cTn id="2368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1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6" dur="1000" fill="hold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1000" fill="hold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8" dur="1000" fill="hold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1000" fill="hold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0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2" dur="1000" fill="hold"/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1000" fill="hold"/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000" fill="hold"/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1000" fill="hold"/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6" fill="hold">
                      <p:stCondLst>
                        <p:cond delay="indefinite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0" dur="1000" fill="hold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1000" fill="hold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1000" fill="hold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1000" fill="hold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fill="hold">
                      <p:stCondLst>
                        <p:cond delay="indefinite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8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3" dur="2000"/>
                                        <p:tgtEl>
                                          <p:spTgt spid="8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6" dur="2000"/>
                                        <p:tgtEl>
                                          <p:spTgt spid="8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5" fill="hold">
                      <p:stCondLst>
                        <p:cond delay="indefinite"/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CONQUISTANDO HOLLYWOOD</a:t>
            </a:r>
            <a:br>
              <a:rPr sz="2400"/>
            </a:br>
            <a:br>
              <a:rPr sz="2400"/>
            </a:b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Muchos lo intentaron, pero s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Arial"/>
              </a:rPr>
              <a:t>ó</a:t>
            </a: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lo unos pocos han sido los privilegiados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1262160" cy="1635120"/>
          </a:xfrm>
          <a:prstGeom prst="rect">
            <a:avLst/>
          </a:prstGeom>
          <a:ln w="0">
            <a:noFill/>
          </a:ln>
        </p:spPr>
      </p:pic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>
            <a:off x="6858000" y="1523880"/>
            <a:ext cx="1333440" cy="182880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3"/>
          <a:stretch/>
        </p:blipFill>
        <p:spPr>
          <a:xfrm>
            <a:off x="3048120" y="1676520"/>
            <a:ext cx="2743200" cy="2666880"/>
          </a:xfrm>
          <a:prstGeom prst="rect">
            <a:avLst/>
          </a:prstGeom>
          <a:ln w="0">
            <a:noFill/>
          </a:ln>
        </p:spPr>
      </p:pic>
      <p:sp>
        <p:nvSpPr>
          <p:cNvPr id="911" name=""/>
          <p:cNvSpPr/>
          <p:nvPr/>
        </p:nvSpPr>
        <p:spPr>
          <a:xfrm>
            <a:off x="741600" y="3656160"/>
            <a:ext cx="1904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Tahoma"/>
                <a:hlinkClick r:id="rId5"/>
              </a:rPr>
              <a:t>Jos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Tahoma"/>
                <a:ea typeface="Arial"/>
                <a:hlinkClick r:id="rId6"/>
              </a:rPr>
              <a:t>é 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Tahoma"/>
                <a:ea typeface="Arial"/>
                <a:hlinkClick r:id="rId7"/>
              </a:rPr>
              <a:t>Luis 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Tahoma"/>
                <a:ea typeface="Arial"/>
                <a:hlinkClick r:id="rId8"/>
              </a:rPr>
              <a:t>Garci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Tahoma"/>
                <a:ea typeface="Arial"/>
                <a:hlinkClick r:id="rId9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99"/>
                </a:solidFill>
                <a:uFillTx/>
                <a:latin typeface="Tahoma"/>
                <a:hlinkClick r:id="rId10"/>
              </a:rPr>
              <a:t>‘ 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Tahoma"/>
                <a:hlinkClick r:id="rId11"/>
              </a:rPr>
              <a:t>Volver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Tahoma"/>
                <a:hlinkClick r:id="rId12"/>
              </a:rPr>
              <a:t> a 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Tahoma"/>
                <a:hlinkClick r:id="rId13"/>
              </a:rPr>
              <a:t>empezar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Tahoma"/>
                <a:hlinkClick r:id="rId14"/>
              </a:rPr>
              <a:t>’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Tahoma"/>
                <a:hlinkClick r:id="rId15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1982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095880" y="34290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Fernando Trueba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           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Tahoma"/>
              </a:rPr>
              <a:t>‘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Tahoma"/>
              </a:rPr>
              <a:t>Belle 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Tahoma"/>
                <a:ea typeface="Arial"/>
              </a:rPr>
              <a:t>É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Tahoma"/>
              </a:rPr>
              <a:t>poque’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1993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04920" y="5943600"/>
            <a:ext cx="45720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99"/>
                </a:solidFill>
                <a:uFillTx/>
                <a:latin typeface="Tahoma"/>
                <a:hlinkClick r:id="rId16"/>
              </a:rPr>
              <a:t>Pedro 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Tahoma"/>
                <a:hlinkClick r:id="rId17"/>
              </a:rPr>
              <a:t>Almodóvar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99"/>
                </a:solidFill>
                <a:uFillTx/>
                <a:latin typeface="Tahoma"/>
                <a:hlinkClick r:id="rId18"/>
              </a:rPr>
              <a:t>‘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Tahoma"/>
              </a:rPr>
              <a:t>Todo sobre mi madre</a:t>
            </a:r>
            <a:r>
              <a:rPr b="1" i="1" lang="en-US" sz="1200" spc="-1" strike="noStrike">
                <a:solidFill>
                  <a:srgbClr val="ff0000"/>
                </a:solidFill>
                <a:latin typeface="Tahoma"/>
              </a:rPr>
              <a:t>’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1999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19"/>
          <a:stretch/>
        </p:blipFill>
        <p:spPr>
          <a:xfrm>
            <a:off x="3657600" y="4724280"/>
            <a:ext cx="1752480" cy="1447920"/>
          </a:xfrm>
          <a:prstGeom prst="rect">
            <a:avLst/>
          </a:prstGeom>
          <a:ln w="0">
            <a:noFill/>
          </a:ln>
        </p:spPr>
      </p:pic>
      <p:sp>
        <p:nvSpPr>
          <p:cNvPr id="915" name=""/>
          <p:cNvSpPr/>
          <p:nvPr/>
        </p:nvSpPr>
        <p:spPr>
          <a:xfrm>
            <a:off x="2819520" y="6248520"/>
            <a:ext cx="4572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Pedro Almodóvar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              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Tahoma"/>
                <a:hlinkClick r:id="rId20"/>
              </a:rPr>
              <a:t>‘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Tahoma"/>
              </a:rPr>
              <a:t>Hable con ella’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2003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562720" y="6019920"/>
            <a:ext cx="4572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Alejandro Amenábar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                   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Tahoma"/>
                <a:hlinkClick r:id="rId21"/>
              </a:rPr>
              <a:t>‘</a:t>
            </a:r>
            <a:r>
              <a:rPr b="1" i="1" lang="en-US" sz="1200" spc="-1" strike="noStrike" u="sng">
                <a:solidFill>
                  <a:srgbClr val="ff3399"/>
                </a:solidFill>
                <a:uFillTx/>
                <a:latin typeface="Tahoma"/>
              </a:rPr>
              <a:t>Mar adentro’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2005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22"/>
          <a:stretch/>
        </p:blipFill>
        <p:spPr>
          <a:xfrm>
            <a:off x="457200" y="4495680"/>
            <a:ext cx="1447920" cy="115416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23"/>
          <a:stretch/>
        </p:blipFill>
        <p:spPr>
          <a:xfrm>
            <a:off x="6781680" y="4038480"/>
            <a:ext cx="125424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3" dur="indefinite" restart="never" nodeType="tmRoot">
          <p:childTnLst>
            <p:seq>
              <p:cTn id="2434" dur="indefinite" nodeType="mainSeq">
                <p:childTnLst>
                  <p:par>
                    <p:cTn id="2435" fill="hold">
                      <p:stCondLst>
                        <p:cond delay="0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0" fill="hold">
                      <p:stCondLst>
                        <p:cond delay="indefinite"/>
                      </p:stCondLst>
                      <p:childTnLst>
                        <p:par>
                          <p:cTn id="2441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9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9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9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0" fill="hold">
                      <p:stCondLst>
                        <p:cond delay="indefinite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9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9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érdida de lectores debido 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Internet y prensa electrónic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Prensa alternativa y gratuit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611280" y="4670280"/>
          <a:ext cx="8216640" cy="2187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1280" y="4670280"/>
                    <a:ext cx="821664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7" name=""/>
          <p:cNvSpPr/>
          <p:nvPr/>
        </p:nvSpPr>
        <p:spPr>
          <a:xfrm>
            <a:off x="3733920" y="3124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666880" y="1981080"/>
            <a:ext cx="56390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uevas salidas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ahoma"/>
              </a:rPr>
              <a:t>-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eriódicos más sensacionalistas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ahoma"/>
              </a:rPr>
              <a:t>-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Ofrecen promociones: DVDs, suplementos dominicales, colecciones por fascículos, …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32000" y="4005360"/>
            <a:ext cx="626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Tahoma"/>
              </a:rPr>
              <a:t>Evolución de la prensa por medios de comunicación y años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Tahoma"/>
              </a:rPr>
              <a:t>Unidades: Miles de personas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mpacto de la prensa gratuita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umento de los niveles de lectu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atisfacción por su calid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ana la lucha contra Internet y la prensa electrónica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2916360" y="3352680"/>
            <a:ext cx="1822320" cy="2765520"/>
            <a:chOff x="2916360" y="3352680"/>
            <a:chExt cx="1822320" cy="2765520"/>
          </a:xfrm>
        </p:grpSpPr>
        <p:graphicFrame>
          <p:nvGraphicFramePr>
            <p:cNvPr id="672" name=""/>
            <p:cNvGraphicFramePr/>
            <p:nvPr/>
          </p:nvGraphicFramePr>
          <p:xfrm>
            <a:off x="2916360" y="4293360"/>
            <a:ext cx="1822320" cy="1824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7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916360" y="4293360"/>
                      <a:ext cx="1822320" cy="182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74" name="" descr=""/>
            <p:cNvPicPr/>
            <p:nvPr/>
          </p:nvPicPr>
          <p:blipFill>
            <a:blip r:embed="rId4"/>
            <a:stretch/>
          </p:blipFill>
          <p:spPr>
            <a:xfrm>
              <a:off x="2916360" y="3352680"/>
              <a:ext cx="1822320" cy="779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457200" y="3789360"/>
            <a:ext cx="2027160" cy="146844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6"/>
          <a:stretch/>
        </p:blipFill>
        <p:spPr>
          <a:xfrm>
            <a:off x="6227640" y="2781360"/>
            <a:ext cx="1897200" cy="244008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7"/>
          <a:stretch/>
        </p:blipFill>
        <p:spPr>
          <a:xfrm>
            <a:off x="5292720" y="5589720"/>
            <a:ext cx="163836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8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8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ENSA ROS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forma sobre la vida privada de los famos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riticada por su frivolid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as más leídas: Pronto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¡Hola!, ¡Qué me dices!, Lecturas, Diez Minutos, Seman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"/>
          <p:cNvSpPr/>
          <p:nvPr/>
        </p:nvSpPr>
        <p:spPr>
          <a:xfrm>
            <a:off x="4697280" y="4876920"/>
            <a:ext cx="3816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s especiales 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plios según la notic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28560" y="4267080"/>
            <a:ext cx="52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iempre crea </a:t>
            </a:r>
            <a:r>
              <a:rPr b="0" lang="en-GB" sz="2400" spc="-1" strike="noStrike" u="sng">
                <a:solidFill>
                  <a:srgbClr val="ffff99"/>
                </a:solidFill>
                <a:uFillTx/>
                <a:latin typeface="Tahoma"/>
                <a:hlinkClick r:id="rId4"/>
              </a:rPr>
              <a:t>polémic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5"/>
          <a:stretch/>
        </p:blipFill>
        <p:spPr>
          <a:xfrm>
            <a:off x="1116000" y="0"/>
            <a:ext cx="1266840" cy="152388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6"/>
          <a:stretch/>
        </p:blipFill>
        <p:spPr>
          <a:xfrm>
            <a:off x="5157720" y="1751040"/>
            <a:ext cx="2867040" cy="180180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7"/>
          <a:stretch/>
        </p:blipFill>
        <p:spPr>
          <a:xfrm>
            <a:off x="453960" y="4711680"/>
            <a:ext cx="3919680" cy="177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ENSA DEPORTIV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361960" y="5105160"/>
            <a:ext cx="5181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La elección de un periódico deportivo depende de la afici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ón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a la que pertenece el lecto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El ‘Marca’ o el ‘AS’, si eres del Real Madri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El ‘Sport’ o el ‘Mundo deportivo’, si eres del F. C. Barcelon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533520" y="4519440"/>
            <a:ext cx="1563480" cy="2186280"/>
          </a:xfrm>
          <a:prstGeom prst="rect">
            <a:avLst/>
          </a:prstGeom>
          <a:ln w="0">
            <a:noFill/>
          </a:ln>
        </p:spPr>
      </p:pic>
      <p:grpSp>
        <p:nvGrpSpPr>
          <p:cNvPr id="688" name=""/>
          <p:cNvGrpSpPr/>
          <p:nvPr/>
        </p:nvGrpSpPr>
        <p:grpSpPr>
          <a:xfrm>
            <a:off x="6381720" y="1143000"/>
            <a:ext cx="2762280" cy="3492360"/>
            <a:chOff x="6381720" y="1143000"/>
            <a:chExt cx="2762280" cy="3492360"/>
          </a:xfrm>
        </p:grpSpPr>
        <p:pic>
          <p:nvPicPr>
            <p:cNvPr id="689" name="" descr=""/>
            <p:cNvPicPr/>
            <p:nvPr/>
          </p:nvPicPr>
          <p:blipFill>
            <a:blip r:embed="rId3"/>
            <a:stretch/>
          </p:blipFill>
          <p:spPr>
            <a:xfrm>
              <a:off x="6477120" y="1143000"/>
              <a:ext cx="1523880" cy="22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>
              <a:off x="6381720" y="3527280"/>
              <a:ext cx="276228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ffff99"/>
                </a:buClr>
                <a:buSzPct val="8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‘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El Marca’ es el diario más leído del país, más incluso que la prensa general.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457200" y="1076400"/>
            <a:ext cx="2590920" cy="2607480"/>
            <a:chOff x="457200" y="1076400"/>
            <a:chExt cx="2590920" cy="2607480"/>
          </a:xfrm>
        </p:grpSpPr>
        <p:sp>
          <p:nvSpPr>
            <p:cNvPr id="692" name=""/>
            <p:cNvSpPr/>
            <p:nvPr/>
          </p:nvSpPr>
          <p:spPr>
            <a:xfrm>
              <a:off x="457200" y="2603520"/>
              <a:ext cx="259092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ffff99"/>
                </a:buClr>
                <a:buSzPct val="8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El f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útbol como deporte principal y con más seguidores en todo el pais.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pic>
          <p:nvPicPr>
            <p:cNvPr id="693" name="" descr=""/>
            <p:cNvPicPr/>
            <p:nvPr/>
          </p:nvPicPr>
          <p:blipFill>
            <a:blip r:embed="rId4"/>
            <a:stretch/>
          </p:blipFill>
          <p:spPr>
            <a:xfrm>
              <a:off x="533520" y="1076400"/>
              <a:ext cx="1438200" cy="14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4" name=""/>
          <p:cNvSpPr/>
          <p:nvPr/>
        </p:nvSpPr>
        <p:spPr>
          <a:xfrm>
            <a:off x="3348000" y="3122640"/>
            <a:ext cx="2762280" cy="18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ffff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a vuelta Espa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ña una de las competiciones más importantes con renombre internacional, se celebra todos los años con gran asistencia de los medios de comunicación y publicidad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5"/>
          <a:stretch/>
        </p:blipFill>
        <p:spPr>
          <a:xfrm>
            <a:off x="3492360" y="1197000"/>
            <a:ext cx="2033640" cy="18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48080" cy="682956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1692360" y="333360"/>
            <a:ext cx="1328760" cy="187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9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LA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PUBLICIDAD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ff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4642920" y="691920"/>
            <a:ext cx="40388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Berlin Sans FB"/>
              </a:rPr>
              <a:t>PUBLICIDAD: Dat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Berlin Sans FB"/>
              </a:rPr>
              <a:t>Mas Que Anunci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Berlin Sans FB"/>
              </a:rPr>
              <a:t>Los Famosos Invaden La Publicida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Berlin Sans FB"/>
              </a:rPr>
              <a:t>Anuncios Controvertid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Berlin Sans FB"/>
              </a:rPr>
              <a:t>Anuncios Que Todo el Mundo Recuerd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4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4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4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9" dur="10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3" dur="10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7" dur="1000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1" dur="1000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1763280" y="1844640"/>
            <a:ext cx="55436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33cc33"/>
                </a:solidFill>
                <a:latin typeface="Tahoma"/>
              </a:rPr>
              <a:t>El mercado publicitario invierte 12.846,3 millones de euro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33cc33"/>
                </a:solidFill>
                <a:latin typeface="Tahoma"/>
              </a:rPr>
              <a:t>Los medios convencionales  como radio, cine, televisión, diarios, dominicales, revistas, Internet, exterior (cabinas, luminosos, etc) representan un 47.9%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33cc33"/>
                </a:solidFill>
                <a:latin typeface="Tahoma"/>
              </a:rPr>
              <a:t>Los medios no convencionales como el buzoneo, catálogos, promociones, ferias, patrocinios, publicidad de móvil etc. representan un 52.1%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1657440" cy="95544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5292720" y="5300640"/>
            <a:ext cx="1795320" cy="134640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7164360" y="1773360"/>
            <a:ext cx="1793880" cy="61740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4"/>
          <a:stretch/>
        </p:blipFill>
        <p:spPr>
          <a:xfrm>
            <a:off x="2124000" y="5300640"/>
            <a:ext cx="1863720" cy="13762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5"/>
          <a:stretch/>
        </p:blipFill>
        <p:spPr>
          <a:xfrm>
            <a:off x="250920" y="3645000"/>
            <a:ext cx="1622160" cy="140472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6"/>
          <a:stretch/>
        </p:blipFill>
        <p:spPr>
          <a:xfrm>
            <a:off x="7164360" y="3500280"/>
            <a:ext cx="1797120" cy="9954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 txBox="1"/>
          <p:nvPr/>
        </p:nvSpPr>
        <p:spPr>
          <a:xfrm>
            <a:off x="1752480" y="685800"/>
            <a:ext cx="5616720" cy="490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Vrinda"/>
              </a:rPr>
              <a:t>la publicidad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Vrinda"/>
              <a:ea typeface="Vrinda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8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8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8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2T13:00:13Z</dcterms:created>
  <dc:creator> </dc:creator>
  <dc:description/>
  <dc:language>en-US</dc:language>
  <cp:lastModifiedBy>OEM User</cp:lastModifiedBy>
  <dcterms:modified xsi:type="dcterms:W3CDTF">2006-06-14T21:18:18Z</dcterms:modified>
  <cp:revision>101</cp:revision>
  <dc:subject/>
  <dc:title>Slide 1</dc:title>
</cp:coreProperties>
</file>